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tivation, Vocation and Disillusi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C3C7A4B-E287-4DF0-B8D7-C67680A11A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E2D51C0-FD6B-4B6C-8CEE-7A74C7A398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040"/>
            <a:ext cx="8858160" cy="9810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otivation, Vocation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nd Disillusion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95200" y="66600"/>
            <a:ext cx="6686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Martin Luther King Jr.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he heard a sermon about Gand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message was so profound and electrifying that I left the meeting and bought a half-dozen books on Gandhi’s life and work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ading about Gandhi, he “discovered the method for social reform that I had been seek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4 concerns his post-graduate study for a Ph.D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ontinued studying philosophies, including Personalism and He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ontinued study helped him to refine his tactics for achieving his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the time he finished his Ph.D., he had “an intellectual understanding” of non-violent resistance, but “no firm determination to organize it in a socially effective situ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another 18 months before he found an opportunity to start using the tactic of non-violent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47960" y="66600"/>
            <a:ext cx="1586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took Martin Luther King Jr. more than 10 years to find and start using a tactic to achieve his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oactively search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 tactic during tha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he had waited passively for inspiration to strike him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ay not have found any tactic at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perhaps he would have used a different tactic, such as armed revol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which is unlikely to have been as success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passively for inspiration is rarely produ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piration does not appear in a vacu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you need input to feed in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get that input from work (or study) plu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Becoming disillusioned with a 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98120" y="66600"/>
            <a:ext cx="7597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ain of insults and having to leave a jo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urt of being insulted va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ur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littl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insult comes from a stranger or slight acquain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ur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l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insult comes from a friend or family 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, how much it hurts to have to leave a job va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t is “just” a job (and you can get another easily) then it hur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litt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t is a “dream” job then it hur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l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considered the job to be your vocation then it can b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gon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31480" y="66600"/>
            <a:ext cx="6846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ain of dysfunctional organiz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consider their career to be a v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doctors, nurses, teachers, lawyer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cational careers are not guaranteed to be free from dysfunctional working environ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ysfunctional working environment can be agony for people who consider their careers to be a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change career to escape dysfunction, thus ending their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stay in the same job, but their vocational zeal gets burne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ame problem can happen to activ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activist organizations have dysfunctional working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ing disillusioned with a not-for-profit organization can be just as much agony as becoming disillusioned with a (paying)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90520" y="66600"/>
            <a:ext cx="1289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some things you encounter rarely, if e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most people buy a house only once or twice in their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difficult to cope with rare events because you lack experi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nd most people you know also lack relevant experi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ing disillusioned with your vocation is one of these rarely encountered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think you are the only person to ever face the iss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this is a rarely encountered problem, most people you know may not have experienced it, but that doesn’t mean it is u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feel you are being “too sensitive” for feeling so up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you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ocat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of course you feel up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who don’t understand how upset you are probably don’t have a vocation of their 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03360" y="66600"/>
            <a:ext cx="2476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ic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 it may take a long time to put your life back on tra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ly many months, possibly several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not feel bi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emotions will sap you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 than thinking “the other people are to blame”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“we were not compatible so it is best to go separate way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ways you can adapt your vocation so you can continue it by yoursel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by yourself means you can avoid dysfunction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acher ends up thinking that state education is dysfun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cher could switch to a non-teaching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he teacher could find an alternative way to continue teach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uch as offering private tu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2320" y="66600"/>
            <a:ext cx="2556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 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utobiography discusses an activist’s disillusi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Autobiography of Malcolm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 of 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colm X was a minister in the Nation of Islam; this was his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exposure made him fa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, combined with excellent communication skills helped him to grow the religious organization very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ministers in the religion became envious of his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colm discovered corruption at the top level of the organization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hook his faith in his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tion of Islam found an excuse to expel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an inspirational book (or this training course) may motivate you for a few wee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motivation will wear off unless you have a purpose or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: reread this training course when you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your vocation can take a long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wait passively for inspiration to str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proactively work or study until you find your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become disillusioned with your v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y be due to a dysfunctional work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disillusionment can be ag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ng with a rare event (such as vocation disillusionment) is diffic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probably lack relevant experience to cope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people’s lack of experience makes it difficult for them to understand why you are so up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Motivation without a 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66600"/>
            <a:ext cx="7439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tivation without purpose has limited 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ts of books and speakers are inspi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leave you feeling motivated to do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fortunately, the motivation usually wears off after a few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probably because you don’t have a “vocation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omething deeply meaningful to you that you want to work 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ivation combin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vocation can produce grea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ivat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thou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vocation usually fades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training course may provide you with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haven’t yet found your vocation then reread this training course when 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Finding your 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65320" y="66600"/>
            <a:ext cx="6789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ny people have not found a vo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 “I don’t know what I want to do with my lif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ay have a vague goal, but they don’t know how they should achiev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oad goal: “I want to work in computer softwa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ilities: programmer, tester, manager, technical support, sales, marketing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oad goal: “I want to end social injusti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ilities: Become a lawyer? Join Amnesty International? Organize protest marches? Fundraising? Lobby politicians? Plot a revolution to overthrow a dictator?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93560" y="66600"/>
            <a:ext cx="4491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to find your vo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passively wait for inspiration to strik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trategy is rarely produ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etter approach is to work at (or study)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ferably something that seems at least partially right for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ep analysing your area of work to determine its mismatch for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ill help you to refine your ideas about what your vocation should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12600" y="66600"/>
            <a:ext cx="5499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Martin Luther King J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example is taken fro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Autobiography of Martin Luther King Jr.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s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2 concerns his time in univers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lways had a deep urge to serve humanity, but I didn’t start out with an interest to enter the ministry. I thought I could probably do it better as a lawyer or docto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he had a broad goal (“serve humanity”) but did not know how to achiev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first inspiration for how to achieve that goal came from reading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n Civil Disobedie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American philosopher Henry David Thor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s do deeply moved that I reread the work several tim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95200" y="66600"/>
            <a:ext cx="6686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Martin Luther King Jr.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3 concerns his time studying in a semin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began “a serious intellectual quest for a method to eliminate social evi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ad many philosophies, theologies and political idealis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to, Aristotle, Rousseau, Hobbes, Bentham, Mill, Locke, Walter Rauschenbusch, Karl Marx, Lenin, Nietzsche, Reinhold Niebu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found flaws with most of them, but also some good ins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ll, he had not found a tactic for achieving his goal that was compatible with his eth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this period […] I thought the only way we could solve our problem of segregation was an armed revol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04:16Z</dcterms:modified>
  <cp:revision>1161</cp:revision>
  <dc:subject/>
  <dc:title>Talent Scouts and Funding Bodies</dc:title>
</cp:coreProperties>
</file>