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Slack</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94D3BD16-7D64-4D36-8230-4FE9FA41E12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5A50A571-547B-4A39-8DE4-A466740ED5C3}"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Slack</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760" y="66600"/>
            <a:ext cx="336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ct on the analysi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a:t>
            </a:r>
            <a:r>
              <a:rPr b="0" i="1" lang="en-GB" sz="2400" spc="-1" strike="noStrike">
                <a:solidFill>
                  <a:srgbClr val="000000"/>
                </a:solidFill>
                <a:latin typeface="Arial"/>
              </a:rPr>
              <a:t>The Lifelong Activist </a:t>
            </a:r>
            <a:r>
              <a:rPr b="0" lang="en-GB" sz="2400" spc="-1" strike="noStrike">
                <a:solidFill>
                  <a:srgbClr val="000000"/>
                </a:solidFill>
                <a:latin typeface="Arial"/>
              </a:rPr>
              <a:t>by Hillary Retti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s 11</a:t>
            </a:r>
            <a:r>
              <a:rPr b="0" lang="en-GB" sz="2000" spc="-1" strike="noStrike">
                <a:solidFill>
                  <a:srgbClr val="000000"/>
                </a:solidFill>
                <a:latin typeface="Arial"/>
                <a:ea typeface="Arial"/>
              </a:rPr>
              <a:t>–</a:t>
            </a:r>
            <a:r>
              <a:rPr b="0" lang="en-GB" sz="2000" spc="-1" strike="noStrike">
                <a:solidFill>
                  <a:srgbClr val="000000"/>
                </a:solidFill>
                <a:latin typeface="Arial"/>
              </a:rPr>
              <a:t>13 in Part I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illary Rettig explained how recording time usage helped h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kept track of her time in 15-minute increments and discover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was spending a lot of working time on personal calls, web surfing, video games, coffee breaks and so on</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did just 25 hours of productive work in a 70-hour wee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resolved to do “a little better”:</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week, she did 35 hours of productive work in a 60-hou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week, she did 40 hours of productive work in a 55-hou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she did 40 hours of productive work in a 45-hour wee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sult: she has a more productive work week and more relaxation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949120" y="66600"/>
            <a:ext cx="3186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ve more frugally</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common attitudes ar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Work more to earn more money to buy more thing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Buy with credit rather than buying only when you have the mone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ch attitudes reduce slack in your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more reduces time slac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ying on credit creates a financial obligation, which reduces freedo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f you can live more frugally t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won’t need so much money, s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can reduce overtime work, or perhaps even work only part-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books provide tips on living cheapl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ook in a local bookstore or in an Internet bookstore such as Amazon</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03640" y="66600"/>
            <a:ext cx="2674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evant quote</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quote sums up the lack of slack in the lives of many peop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rmal is getting dressed in clothes that you buy for work, driving through traffic in a car that you are still paying for </a:t>
            </a:r>
            <a:r>
              <a:rPr b="0" lang="en-US" sz="2000" spc="-1" strike="noStrike">
                <a:solidFill>
                  <a:srgbClr val="000000"/>
                </a:solidFill>
                <a:latin typeface="Arial"/>
                <a:ea typeface="Arial"/>
              </a:rPr>
              <a:t>—</a:t>
            </a:r>
            <a:r>
              <a:rPr b="0" lang="en-US" sz="2000" spc="-1" strike="noStrike">
                <a:solidFill>
                  <a:srgbClr val="000000"/>
                </a:solidFill>
                <a:latin typeface="Arial"/>
              </a:rPr>
              <a:t> in order to get to the job that you need so you can pay for the clothes, car, and the house that you leave empty all day in order to afford to live in it.</a:t>
            </a:r>
            <a:br>
              <a:rPr sz="2000"/>
            </a:br>
            <a:r>
              <a:rPr b="0" lang="en-US" sz="2000" spc="-1" strike="noStrike">
                <a:solidFill>
                  <a:srgbClr val="000000"/>
                </a:solidFill>
                <a:latin typeface="Arial"/>
                <a:ea typeface="Arial"/>
              </a:rPr>
              <a:t>— Ellen Goodman, American journalist and auth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ummary</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efinitions of </a:t>
            </a:r>
            <a:r>
              <a:rPr b="0" i="1" lang="en-GB" sz="2400" spc="-1" strike="noStrike">
                <a:solidFill>
                  <a:srgbClr val="000000"/>
                </a:solidFill>
                <a:latin typeface="Arial"/>
              </a:rPr>
              <a:t>slack:</a:t>
            </a:r>
            <a:r>
              <a:rPr b="0" lang="en-GB" sz="2400" spc="-1" strike="noStrike">
                <a:solidFill>
                  <a:srgbClr val="000000"/>
                </a:solidFill>
                <a:latin typeface="Arial"/>
              </a:rPr>
              <a:t> </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ctionary: </a:t>
            </a:r>
            <a:r>
              <a:rPr b="0" i="1" lang="en-GB" sz="2000" spc="-1" strike="noStrike">
                <a:solidFill>
                  <a:srgbClr val="000000"/>
                </a:solidFill>
                <a:latin typeface="Arial"/>
              </a:rPr>
              <a:t>not tight</a:t>
            </a:r>
            <a:r>
              <a:rPr b="0" lang="en-GB" sz="2000" spc="-1" strike="noStrike">
                <a:solidFill>
                  <a:srgbClr val="000000"/>
                </a:solidFill>
                <a:latin typeface="Arial"/>
              </a:rPr>
              <a:t> or </a:t>
            </a:r>
            <a:r>
              <a:rPr b="0" i="1" lang="en-GB" sz="2000" spc="-1" strike="noStrike">
                <a:solidFill>
                  <a:srgbClr val="000000"/>
                </a:solidFill>
                <a:latin typeface="Arial"/>
              </a:rPr>
              <a:t>not busy</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om DeMarco: </a:t>
            </a:r>
            <a:r>
              <a:rPr b="0" i="1" lang="en-GB" sz="2000" spc="-1" strike="noStrike">
                <a:solidFill>
                  <a:srgbClr val="000000"/>
                </a:solidFill>
                <a:latin typeface="Arial"/>
              </a:rPr>
              <a:t>the degree of freedom required to effect change</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oppressive system removes slack from those it oppres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akes it difficult for the oppressed to make changes to end the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need slack in your life if you want to change the worl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up to you to find ways to create slack in your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54040" y="66600"/>
            <a:ext cx="259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What is slack?</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ictionary definition of slack: </a:t>
            </a:r>
            <a:r>
              <a:rPr b="0" i="1" lang="en-GB" sz="2400" spc="-1" strike="noStrike">
                <a:solidFill>
                  <a:srgbClr val="000000"/>
                </a:solidFill>
                <a:latin typeface="Arial"/>
              </a:rPr>
              <a:t>not tight; not busy</a:t>
            </a:r>
            <a:r>
              <a:rPr b="0" lang="en-GB"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om DeMarco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management consultant in the software indust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uthor of several well-known books, including </a:t>
            </a:r>
            <a:r>
              <a:rPr b="0" i="1" lang="en-GB" sz="2000" spc="-1" strike="noStrike">
                <a:solidFill>
                  <a:srgbClr val="000000"/>
                </a:solidFill>
                <a:latin typeface="Arial"/>
              </a:rPr>
              <a:t>Slack</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 his book </a:t>
            </a:r>
            <a:r>
              <a:rPr b="0" i="1" lang="en-GB" sz="2400" spc="-1" strike="noStrike">
                <a:solidFill>
                  <a:srgbClr val="000000"/>
                </a:solidFill>
                <a:latin typeface="Arial"/>
              </a:rPr>
              <a:t>Slack, </a:t>
            </a:r>
            <a:r>
              <a:rPr b="0" lang="en-GB" sz="2400" spc="-1" strike="noStrike">
                <a:solidFill>
                  <a:srgbClr val="000000"/>
                </a:solidFill>
                <a:latin typeface="Arial"/>
              </a:rPr>
              <a:t>Tom DeMarc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defines slack as </a:t>
            </a:r>
            <a:r>
              <a:rPr b="0" i="1" lang="en-GB" sz="2000" spc="-1" strike="noStrike">
                <a:solidFill>
                  <a:srgbClr val="000000"/>
                </a:solidFill>
                <a:latin typeface="Arial"/>
              </a:rPr>
              <a:t>the degree of freedom required to effect change</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scusses several issues that hinder chang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lack is important to anyone who wants to change the worl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hapter discusses some issues that hinder slac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d suggests ways to combat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82560" y="66600"/>
            <a:ext cx="5935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ample of why slack is important</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scenari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work 80 hours a week at minimum-wage to earn enough to liv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work is physically tiring and stressfu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would like to make a change. Eith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ampaign to improve working conditions and pay, 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ind a better job (fewer hours, more money, less stres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owev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long hours means you have very little time to campaign or search for a new job</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you do have some time, stress and exhaustion means you don’t have the energ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ut simply: a lack of slack makes it difficult to effect chang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applies to changing your own life or changing the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56920" y="66600"/>
            <a:ext cx="6218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ppressive systems eliminate slack</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oppressive system removes slack from those it oppres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akes it difficult for the oppressed to make changes to end the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of how an oppressive system removes slac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freedom (through slavery, threat of imprisonment or threat of evic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money (very low wages or slave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free time due to hard work and long hou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ducing morale due to continual stres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62320" y="66600"/>
            <a:ext cx="2556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reating slack</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f you want to make changes then you need to create slac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is no universal best way to do th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the rest of this chapter suggests some possibilities</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Ways to create slack in your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87280" y="66600"/>
            <a:ext cx="4948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alyse how you waste time</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a:t>
            </a:r>
            <a:r>
              <a:rPr b="0" i="1" lang="en-GB" sz="2400" spc="-1" strike="noStrike">
                <a:solidFill>
                  <a:srgbClr val="000000"/>
                </a:solidFill>
                <a:latin typeface="Arial"/>
              </a:rPr>
              <a:t>The Lifelong Activist </a:t>
            </a:r>
            <a:r>
              <a:rPr b="0" lang="en-GB" sz="2400" spc="-1" strike="noStrike">
                <a:solidFill>
                  <a:srgbClr val="000000"/>
                </a:solidFill>
                <a:latin typeface="Arial"/>
              </a:rPr>
              <a:t>by Hillary Retti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10 in Part I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For one week, record how you spend your ti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echniqu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rite a list of tasks on a page, one task per line</a:t>
            </a:r>
            <a:br>
              <a:rPr sz="2000"/>
            </a:br>
            <a:r>
              <a:rPr b="0" lang="en-GB" sz="2000" spc="-1" strike="noStrike">
                <a:solidFill>
                  <a:srgbClr val="000000"/>
                </a:solidFill>
                <a:latin typeface="Arial"/>
              </a:rPr>
              <a:t>(everything from work-related tasks to entertainment and chor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t a timer to go off every 15 minutes</a:t>
            </a:r>
            <a:br>
              <a:rPr sz="2000"/>
            </a:br>
            <a:r>
              <a:rPr b="0" lang="en-GB" sz="2000" spc="-1" strike="noStrike">
                <a:solidFill>
                  <a:srgbClr val="000000"/>
                </a:solidFill>
                <a:latin typeface="Arial"/>
              </a:rPr>
              <a:t>(easy to remember what you were doing in such a short time perio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hen the timer goes off, put a tick beside the task you were doing during the previous 15 minut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fterwards, analyse the ticks to find unexpected wastes of tim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people discover 20+ hours of wasted time pe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taring out the window, aimlessly surfing the Internet, …</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on unimportant tas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liminating such wasted time can create a lot of sl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8-12T21:12:32Z</dcterms:modified>
  <cp:revision>1182</cp:revision>
  <dc:subject/>
  <dc:title>Slack</dc:title>
</cp:coreProperties>
</file>