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6A40EE1-29FF-4707-9F94-C150C95391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B47ABED-E50C-493F-B5BD-2109DFC253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eople do things f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s, not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23880" y="66600"/>
            <a:ext cx="427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 from an earlier chap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66600"/>
            <a:ext cx="546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tactics encouraged students to stay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students joined a “dropout patrol” to mentor struggl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pressure made it less socially acceptable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local businesses offered benefits to students who enrolled in the “dropout patr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s on food, clothes, books, music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-interest bank loans to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not care about Jason’s altruistic ambitions for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oined the “dropout patrol” anyway to get the offered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son learned an important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520" y="66600"/>
            <a:ext cx="852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 has a utopian vision. How can she convince others to support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people into differ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benefits of her utopian vision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e those benefits to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. Mary’s utopian vision is to end anti-X discr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bvious groups: X and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of her vision for X people are obvious and easy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for non-X peopl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. Mary needs to focus on this if she wants to get widesprea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36600" y="66600"/>
            <a:ext cx="300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tarted the “free software”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3 categories of people relevant to his 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utopian vision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benefits for end users and 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drawbacks (and not-so-obvious benefits) for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a splinter group 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named “free” software as “open-source” software because they felt it was easier to market an open-source vision to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st of your supporters will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ubset of your utopian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8160" y="66600"/>
            <a:ext cx="187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some of your supporters will sh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a 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vision, but appreciate some of its anticipated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 partial sharing of the vision may cause fr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orters may accuse you of being “too extreme” or of being bad for the image of the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you used to trust for their support no longer seem trust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8640" y="66600"/>
            <a:ext cx="47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friction often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s of betra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s dividing into factions that fight each other instead of working together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ause of the friction can help reduc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iction probably isn’t betrayal; just an incompletely share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actions can be “friendly neighbours” instead of a “fighting family”, and cooperate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 failed utopia can be partiall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3080" y="66600"/>
            <a:ext cx="72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utopia can be partially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ated earlier, utopias suffer from a scalability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calability problem, if many peo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into a utopian vision then it can cause widesprea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a “failed” utopia can be partially successful in a way that brings impress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Gandhi wanted to use Satyagraha tactics to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 of India (he succ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s between Muslims and Hindus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sm in Indian society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“Be Cool… Stay in Scho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one student dropped out during the fir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previously there were 10 or 20 dropou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58960" y="66600"/>
            <a:ext cx="378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utopias are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ability limit means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pias are 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find this hard to admit for your own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can still argue that your utopian v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s flaw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other visions (or the status q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cy is the worst form of government except for all those other forms that have been tried from time to tim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aber Book of Utopi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Car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roduction discusses characteristics common to many utopias and dyst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ach chapter summarizes a particular utopia or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s are ordered from ancient history to moder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unlikely to be interested in all of the book’s 101 utopias and dyst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introduction contains a very interesting discussion of utopia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alability limit appli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op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probably result in factions appearing within you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al success can be very imp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ly,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 pl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aday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a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lated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ys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one person’s utopia might be another person’s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ometimes used in a dismis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mplication is that a utopian vision is unrealistic or 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ystopias are explored through science fic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rave New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utopias can be found in ideologi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socialism,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have a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some people may dismiss your ideas as being hopelessly utop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attempts to implement utopias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failed may help you avoid simila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the purpose of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he scalability limit of utop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53720" y="66600"/>
            <a:ext cx="520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believes an ideal life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physical labour (such as farm work) during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vening, play chess and have group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Fred make this utopian ideal a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, 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n probably find 10 or 20 people who 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ement a small utopi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ill probably assume his utopia can work on a larger sca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uch as an entire cou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will not because most of the population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6560" y="66600"/>
            <a:ext cx="639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m failed because communism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n vision could be made to 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ommon belief is w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 will fail if you implement it in a large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most of the population wi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your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ilure will occ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ard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ow good or bad the utopia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discouraging if you have a utopian vision that you wish to share with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5840" y="66600"/>
            <a:ext cx="783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tions for implementing your utopian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two options for implementing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your utopia within a small community of like-mind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tempted to exp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 to share your utopia with the general population but realize this will probably fail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other utopias failed when exported to a large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understand the frustrations you will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t of this chapter explores op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2760" y="66600"/>
            <a:ext cx="562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s from attempted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lessons from attempted utop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sections examine these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8Z</dcterms:modified>
  <cp:revision>1158</cp:revision>
  <dc:subject/>
  <dc:title>Utopias</dc:title>
</cp:coreProperties>
</file>