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9E44713-421B-473B-ABDA-821DBB576C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F6B511C-22DB-4A5F-9D24-31B727B130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9840" y="66600"/>
            <a:ext cx="119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to view equations is as a guideline for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rites a paper on a subject about which he is 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ites a few more papers on related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s: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few more papers = boo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ach paper can be reused as a chapter in the 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writing the book,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+ complementary slides =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course + “I’m an author” credentials = lots of pay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se steps, Fred can start a new career for him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860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k out opportunities for 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look for ways to achieve re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I reuse previous projects in this new projec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I be able to reuse this current project in future project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a project in a way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to be reus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on a chalk boar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in a word processor document or PowerPoint slid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e project can be reused by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can reuse his ow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ly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nex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ll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could be reused in a variety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students, or by othe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in the form of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d into another, overlapping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93880" y="66600"/>
            <a:ext cx="37022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’s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well-known TV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ok at his career shows how he reused existing skills in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d a popular TV cooking programme for 3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TV station dropped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 are ways he reused his existing skills to earn a li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a cookery DVD and sold it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ent on tour, giving a live 2-hour cooking show in thea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orded the live cookery show and released it on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think of those as equations (“???” denotes new skills he had to acqui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cookery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tour of live cooker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r of live cookery show + DVD-making skills = DVD of the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88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ie Oliver’s care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learned that English school dinners were junk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causing widespread health and behaviour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how he tackled this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rked with one school’s catering staff to analys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nvented nutritious recipes within the limited cater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ined the catering staff to cook his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nvinced politicians to roll out his plan nation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he recorded t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shown as a six-part TV show and then released on DV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e’s School Din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despread viewing of the show helped apply pressure to politicians and schools to roll out his healthier school di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s he took can be viewed as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hr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you have is a hammer, everything looks like a n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skill “x” then you might be tempted to think you can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x”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probably other (missing) part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o think in terms of equations is benef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develop a “to do”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kills to be ac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convince others to work wit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lan your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roactively seek opportunities for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Using equation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3160" y="66600"/>
            <a:ext cx="6272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faced by Brazilian far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anecdote is taken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3 (“The Light in My Head Went On”) of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Change the Worl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farmers in Brazil in the 1980s faced two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ams and irrigation channels were owned by large land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harged small farmers a lot of money for access to wat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ree times the world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companies supplied power cost-effectively to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harged $7000 to connect a rural fa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’s income for a small far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created a poverty trap for smal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20880" y="66600"/>
            <a:ext cx="1841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 Rosa thought of a way to tackle the first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ew there was water under the farm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s could be dug to access th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ter could be pumped from the wells and used for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rmers could then afford to u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ter seed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i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-intensive but effective way to grow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ater pump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lectr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needed a wa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ap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 farms to the electricity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eventually found such a way that cost only $4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 the cited chapter for deta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pressed his ideas a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xpensive electricity + wells + pumps = cheap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ap irrigation + water seedling = more efficient land use and 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1200" y="66600"/>
            <a:ext cx="33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to be lear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want to solve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ight discover “X will solve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quation is: x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 a problem with a simple solution.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blems are mor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require a more complex set of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+ b + c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y + z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on’t solve a complex problem if you focus only on “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frustrating if you have great x-related skills but lesser skills related to other parts of the equ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: x = solution to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determine if there are other component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an equation helps you to develop a “to do”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s you identify the sub-problems you have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helps you identify skills you may need to develo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find other people who have those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ing your equation to others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spot flaw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gree your equation solves a worthwhile problem then they might get excited enough to help you solve some of the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equations in your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0560" y="66600"/>
            <a:ext cx="46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planned career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might use the following tactic in his car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he works doing job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does not achieve success with X, he switches to (unrelated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when Y fails, he switches to (unrelated)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approach has two drawb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lim chance of making Fred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finally finds success with Z then he may regret the time he wasted o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a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n equation that leads to that goal: x + y + z =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jobs that move you towards that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0:29Z</dcterms:modified>
  <cp:revision>1130</cp:revision>
  <dc:subject/>
  <dc:title>Equations for Change</dc:title>
</cp:coreProperties>
</file>