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Entrepren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D09148E-E968-4585-9FED-BDD59A6B29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C1EE3A2-2280-486F-B54C-22F7DFFAB5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Entrepreneu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01960" y="66600"/>
            <a:ext cx="328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fu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hilanthropists and talent scout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willing to provide start-up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ing to provide indefinite, on-going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a social enterprise project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way to become profi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nature of many social enterprises makes this im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ind a different source of on-going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easy solution to the difficulty of finding on-going 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l chapt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to Change the World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some issues that may help people find a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slide discusses one possibility (inspired by that chap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9480" y="66600"/>
            <a:ext cx="7377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future possibility for on-going fu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hypothetical future soci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are used to measure the benefits of social enterpris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vernment uses some tax money to fund social enterprise projects that score well against the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ight work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mall social enterprise projects spend money more effectively than larger, more bureaucratic organizations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spent on, say, healthcare-related social enterprise projects may be a cost-effective way to reduce the burden on a large, inefficient national healthcar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redirec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from government-run projects (like healthcare) to complementary social enterprise projects c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for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0200" y="66600"/>
            <a:ext cx="753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ing for minority and oppressed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lide provides some food for though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 minority or oppressed group create its own talent scout organiz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donations from other members of the commun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 donating £10 or £100 each can result in many thousands being rai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 raised could be channelled to strategically important projec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support groups, some “let’s change the law” campaig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ccess stories can be fed back to people who donated mone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es them that their money was well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s them to donate more money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can donate skills instead of mon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ccountancy, legal, management, web-site design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otiv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money is usually a lesser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entrepreneur who wants to create something that will greatly benefi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“talent scout” organizations help philanthropists give start-up money to the best social entrepren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inding a source of on-going funding can b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for thou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an oppressed or minority group could set up its own internal “talent scout”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to use during the 1960s and 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has grown in popularity, but many people are still unfamiliar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the ter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cial entrepren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some funding-related issues of concern to socia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4320" y="66600"/>
            <a:ext cx="4413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n entrepreneu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Fre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literal meaning is: a person who undertakes a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adays, most people think an entrepreneu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rson who starts a business to mak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, many entrepreneurs start a business so they can create a new product or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ain motivation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roduct o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money from the creation is just a (useful) sid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1360" y="66600"/>
            <a:ext cx="530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social entrepreneu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entrepreneur who wants to create something of great benefit to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ocial entrepreneurs work on projects that have no chance of making money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helplines for people who are in trou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pression, victims of rape, child abuse, and so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forms of education for people who do not have their needs met by state-funde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up kitchen to feed homel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-based 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social entrepreneurs face a problem: they have to find funding to carry out thei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7000" y="66600"/>
            <a:ext cx="437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philanthropi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ilanthropist is a person (or organization) who donates money to good causes (including social entreprene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a philanthropist wants to give up to £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 to “good caus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ilanthropist face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ens of thousands of good causes 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 them are run by competen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 them use donatio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ime-consuming for the philanthropist to find the “best” good causes to receive his or her do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social entrepreneurs and philanthropists find each 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2680" y="66600"/>
            <a:ext cx="241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ent sco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lent sc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omebody who matches talented people with an organisation looking for su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cord company uses talent scouts to find talented musicians who do not have a recording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fessional sports team uses talent scouts to find young talented sports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ome vari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ob recruitment agency matches job seekers with 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orts agent matches a talented sportsperson with a company that wants to use such a person to promote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 talent scout direct philanthropists to the best social entreprene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31840" y="66600"/>
            <a:ext cx="1407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ho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hoka (www.ashoka.org) is a talent scout 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btains funding from philanthrop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ives that funding to the best social entrepreneurs it can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so provides non-financial support,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 with other social entrepreneurs in 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from professional accountancy and management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hoka was started in 1980 by Bill Dray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named the organization after an ancient Indian empe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arted with $50,000 donated by Bill Drayton and some of his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s reputation increased, it attracted donations from other philanthropists ($3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 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book provides a great introduction to Asho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to Change the World: Social Entrepreneurs and the Power of New Id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y David Bor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9880" y="66600"/>
            <a:ext cx="5581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talent scout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ind some other talent scout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Wikipedia entry for “social entrepreneurshi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an Internet search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rganization has its own criteria for deciding which individuals or groups to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mon selectio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must aim not just to help people, but to bring about change in people’s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must aim to bring about change at a national level rather than just at a 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cial entrepreneur has relevant skills and is willing to work for many years or decades on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riteria make projects attractive to philanthrop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8-12T16:59:13Z</dcterms:modified>
  <cp:revision>1234</cp:revision>
  <dc:subject/>
  <dc:title>Introduction</dc:title>
</cp:coreProperties>
</file>