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ovator’s Dile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FE87DD0-5166-4DD2-AF26-A9C0805237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009E83E-09CD-485A-A4E8-A5A1955EA2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Innovator’s Dilem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59200" y="66600"/>
            <a:ext cx="3170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ggested tac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chnology appears to be semi-disru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uggests a tactic for James Dyson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c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rying to sell the technology to the mainstream manufact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view it as disruptive, and so will never li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sell it into a new, nic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profits from the niche market to (eventually) attack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ually, James Dyson found some small niche mark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ustrial cleaners instead of consumer vacuum clea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nother coun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ufacturers in Europe and America ignored the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he was able to license the technology in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31840" y="66600"/>
            <a:ext cx="1407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fits from the niche markets plus additional investment enabled James Dyson to set up his own factory i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yson vacuum cleaners became the market leader in England despite costing 2 or 3 times more than most conventional vacuum clea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yson’s patents limited the ability of mainstream manufacturers to compete with his new technology for several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find more details in James Dyson’s autobi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ok is cal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gainst The Odd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ok discusses many examples of dirty tricks used by business partners and mainstream companies to steal or discredit his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ok’s focus is “skills you will need, and obstacles you will face, if you want to be a successful invento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Example: Sister Kenny’s treatment for p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49280" y="66600"/>
            <a:ext cx="988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o is a disease that affects muscles, thus causing par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day, there are vaccines that make people immune to p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before the invention of the vaccine, Polio epidemics ruined the lives of millions of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decades, doctors had a fundamentally flawed understanding of the nature of pol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aused them to treat polio in a way that was harmfu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treatment significantly worsened the effects of pol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reakthrough in understanding polio came from a n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 name was Sister Elizabeth Ke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ster” was a rank given to nurses in the Australian 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14320" y="66600"/>
            <a:ext cx="751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zabeth Kenny’s first encounter with pol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lizabeth was 14 she studied books on musc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nowledge gained enabled her to devise exercises to strengthen the muscles of her weak younger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 expertise in muscles later helped her gain insight into p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, she studied for 3 years to become a n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decided to become a “bush” (rural) nurse rather than work in a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age of 23, she encountered polio for the first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was unfamiliar with this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described the symptoms in a telegraph to Dr. McDonnell in the nearest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ply stated “No known treatment. Do the best you can with the symptoms presenting themselv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60200" y="66600"/>
            <a:ext cx="5205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success and op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ing her expert knowledge of muscles with experimentation, she treated and cured 6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oing so, she developed a theory of polio and coined several new terms to explain her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, when she met Dr. McDonnell, he was amazed at her suc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alized her theory and treatment of polio contradicted accepted medical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r. McDonnell was a surgeon rather than an expert in polio so he could not effectively champion her unorthodox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zabeth Kenny tried to explain her ideas to other do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ould not listen to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lem was one of hierarchical authority: a nurse should not dare to teach a 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06320" y="66600"/>
            <a:ext cx="2279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tics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McDonnell instinctively kne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Innovator’s Dilem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s (representing the mainstream market) were not interested in Elizabeth Kenny’s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she should market her ideas elsewhere (a niche mark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advised her to set up her own treatment cli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took his ad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o sufferers who had tried the mainstream doctors and not been cured went, in desperation, to Elizabeth Kenny cli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itizens became supporters of Elizabeth Ke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did some people in government, because they saw the practical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till the medical establishment refused to consider her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04760" y="66600"/>
            <a:ext cx="3467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tics used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, she became more famous and controvers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 support among the general population increased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25 years, most Australian doctors still refused to consider her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she took her ideas to other mark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doctors were initially sceptical, but within a year she had convinced many of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2 years of being in America, her ideas became accepted in the USA and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zabeth Kenny’s leg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her polio treatment diminished when, years later, a polio vaccine was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her knowledge of muscles has had a lasting impac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otherap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 therap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xample: Manufacturing goods without 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8560" y="66600"/>
            <a:ext cx="7202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facturing goods without exploi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items you buy are manufactured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se items are made by exploiting people in slave-labou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assume you want to end slave-labour conditions around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face the following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panies use foreign, slave labour to keep down the cost of manufacture of a particular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ompany uses more expensive, non-slave labour for the sam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compan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 on price in the mainstream mark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nd so risks going out of busi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uggests you cannot end slave labour by trying to change the practices of mainstream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377800" y="66600"/>
            <a:ext cx="4336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of a disruptive tac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y to bring about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iche market for products that are not manufactured with slave labour (or other exploitative pract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Fairtrade Found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controls use of a “fairtrade”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non-exploitative companies to use this logo on their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inority of customers will buy fairtrade products instead of cheaper non-fairtrad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customers value a clear conscience more than other product attributes, such as “cheapest price” or “highest qual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niche market will slowly grow if you educate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mainstream manufacturers will notice the decline in sales of their non-fairtrade products, and will change their business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25360" y="66600"/>
            <a:ext cx="5048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despread use of this tac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irtrade Foundation is not the only organization to use this tac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untries have an official “organic” or “environmentally friendly” logo that can be used on conforming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an national or international official logo is not always necess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panies independently market themselves for niche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he Body Shop (cosme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Benny &amp; Jerry’s (ice c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assume you have an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an interest mainstream companies in your inno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. Instant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mainstream companies in your innovation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ould keep trying to interest them, but you are unlikely to succ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robably better to find a niche market for your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, your niche market may grow and replace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atient. It may takes decades for the niche market to grow enough to replace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95320" y="66600"/>
            <a:ext cx="3741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ory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e it is about 1800 and you are head of a company that makes sailing ships that can cross an oc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customers want faster, bigger ships that can carry more car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listen to these customers and build such 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doing so, you achieve ever-increasing profit mar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the steamboat is inven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move against the wind, or in the absence of wind, which makes it useful for use on inland rivers, canals and l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compared to your sailing ships, it is slower, costs more per mile to run and is unreliable, so it is unsuitable for use on the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your likely reaction to the steambo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82960" y="66600"/>
            <a:ext cx="4929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ory exam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ul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versify your busi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e to build ocean-going sailing 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also invest in steam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it is unlikely you would do 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xisting sailing-ship business serves a massive market and you barely have enough resources to meet customer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not afford to divert resources into steamboats w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xisting customers do not want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re is a much smaller market for river steambo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time, steamboats got faster, more reliable and cheaper to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, they became “good enough” for use on the oc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sailing ship companies survived the transition to steam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80760" y="66600"/>
            <a:ext cx="4157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ruptive techn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roduction of steam technology for ships is an example of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sruptive techn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disrupted the industry of transoceanic ship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spi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itially) being an inferior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-leading companies went out of business and were replaced by new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in-depth discussion of disruptive technologies is provided in the following 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Innovator’s dilemm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Professor Clayton M. Christen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7400" y="66600"/>
            <a:ext cx="6805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ortance of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The Innovator’s Dilem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ook provides some important advice for busin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a business can survive when a disruptive innovation is introduced to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do’s and don’ts for introducing a disruptive innovation to your own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views the topic from a different point of 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novator (rather than a busi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in lesson for an individual innovator is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isting companies catering to the mainstream market may reject your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novation is disruptive and find a niche market for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in a niche market will help you to eventually enter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Example: the Dyson vacuum clea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1760" y="66600"/>
            <a:ext cx="4732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Dyson vacuum clean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1970s, most vacuum cleaners used disposable bags to collect d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es Dyson, an English inventor, noticed a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leaners worked by drawing air and dirt into a bag and the air then went out through tiny pores in the bag, leaving the dirt in the b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even a small amount of dirt in the bag clogged up the pores, thus reducing the suction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es Dyson invented a new type of vacuum cleaner that avoided the need for ba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bags to clog up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o loss of s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as a great technical break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ely he could license his technology to vacuum cleaner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7160" y="66600"/>
            <a:ext cx="5600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s this technology disruptiv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s the Dyson vacuum cleane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srup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arently no,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uperi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mainstream vacuum cleaner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isruptive technologies are usually initially inferi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arently yes,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stream vacuum cleaner manufacturers ignored the technology because they did not like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m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ade lots of money selling disposable vacuum cleaner b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ruptive technologies usually require a change in marketing, which mainstream manufacturers are reluctant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14T13:49:35Z</dcterms:modified>
  <cp:revision>1179</cp:revision>
  <dc:subject/>
  <dc:title>The Innovator’s Dilemma</dc:title>
</cp:coreProperties>
</file>