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uck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876E806-37F5-4B66-937A-EC8C879B00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A6E6DAB-52BB-4B4F-B404-616717000D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Luck Fa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9800" y="66600"/>
            <a:ext cx="2198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ck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iseman wondered if good luck could be tau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eveloped an experiment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ck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i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filled out a questionnaire to determine their current level of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gave them advice and exercises that might improve their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nth later, 80% of the people reported that their luck had improved dra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Luck Fac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discusses several exercises to increase 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35240" y="66600"/>
            <a:ext cx="28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qu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popular quotes support aspec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Luck F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ke your own lu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arder I work, the luckier I g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ideas can be found in several reli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ity: “The Lord helps those who help themselv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: “If you take one step towards Allah, He will take two steps towards yo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 is closely associated with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be successful in changing the world then you should be interested in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iseman’s research indic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 is largely determined by how you think and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ange your luck by changing how you think and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has provided a quick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uck Fa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5520" y="66600"/>
            <a:ext cx="2871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uck Fa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iseman (www.RichardWiseman.co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professor of psychology at the University of Hertfordshire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research into deception, humor, the paranormal and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ndered if there was a psychological basis for lu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used experiments, questionnaires and interviews to fin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ublished the results in the bestseller boo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uck Fa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scover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y and unlucky people have different behaviors and att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hange these then you can increase your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 is often associated with success, 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an become luckier then you are more likely to be able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7600" y="66600"/>
            <a:ext cx="8308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1: maximize your chance opport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and interact with more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strangers at bus stops, while waiting in line or at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open” (friendly, inviting) body language and smile to attract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maintain a long-lasting network of friends and collea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stay relax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otice more chance opportunities if you are relaxed instead of anx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pen to new experi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or random experiences can expose you to more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new food, vary your route to work or your method of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you go on holiday, go to a different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new people, or talk about different topics to people you already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6320" y="66600"/>
            <a:ext cx="716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2: pay attention to your intu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s showed that lucky people are more likely to listen to their intuition in 4 parts of their l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ers, personal relationships, business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man had a history of relationships that turned out to be abu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ime she started such a relationship, her intuition told her the man was not good for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he ignored her intuition eac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on lead a salesman to put great effort into getting information for a potential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is colleagues thought it was a foolish waste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 year, he had a £140,000 of business from this new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4680" y="66600"/>
            <a:ext cx="8348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2: pay attention to your intui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employ techniques to boost their intu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ditate on a regula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ind a quiet place to relax and clear their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op working on a difficult problem for a while and return to it again after they have had a chance to think abou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1840" y="66600"/>
            <a:ext cx="4332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3: be optimi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sm and pessimism can become self-fulfilling prophe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optimistic about a goal then you may work harder to achie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pessimistic about a goal then you may subconsciously sabotage your own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tend to persevere when something is diffic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, unlucky people give up sooner, thereby decreasing their chances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are optimistic about their interactions with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ssume that other people are competent and appro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reates a self-fulfilling prophe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06600" y="66600"/>
            <a:ext cx="6091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4: turn bad luck into g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 on negative thoughts makes you feel depressed and wastes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ucky people tend to focus on the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y people tend to focus on th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can see the positive side of bad lu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body accidentally shot me in the arm? I’m lucky because I might have been kille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broke a leg and am housebound? This gives me a chance to read some books that I’ve been too busy to read previousl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think that bad luck will work out for the best in the 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in prison for committing a crime? Perhaps I should think of a different career pat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66600"/>
            <a:ext cx="7278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4: turn bad luck into good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learn from their mistakes or bad lu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ve been rejected by dates or potential employers. I need to find out what I have been doing wrong so I can fix it and succeed next tim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0:43Z</dcterms:modified>
  <cp:revision>1118</cp:revision>
  <dc:subject/>
  <dc:title>The Luck Factor</dc:title>
</cp:coreProperties>
</file>