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nd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5A157252-2B5C-4736-8923-5834C2AD5FE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8C83FA14-BCBF-445C-961A-E88905D438D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nd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0760" y="66600"/>
            <a:ext cx="7716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dentities arising from a fixed mindset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“I am a success” identity can also be b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encourages a feeling of superiority over other peopl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is can cause you to mistreat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 when currently successful, you might be fearful of futur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ople with a fixed mindset are more likely to try to look good by comparison with ot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putting other people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agreeing with derogatory stereotypes of other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ople with a fixed mindset are also more likely to begrudge the success of ot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body being more successful than you can make you feel like a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93400" y="66600"/>
            <a:ext cx="4908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xed mindsets in edu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der two students who have fixed mind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d has poor mathematical skills. He thin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’m no good, and can never be any good, at this. Therefore, there is no point in me even trying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becomes a self-fulfilling prophecy. Without studying, he will 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hn has excellent mathematical skills. He thin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who are poor at mathematics have to study hard to improve. Mathematics comes naturally to be, so I don’t have to work at i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must not put effort into studying mathematics because doing that would suggest I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study hard, and only people who are poor at mathematics need to study hard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the best in the school at mathematics. I must not enter a national competition because if I lose then I would no longer be ‘the best’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90400" y="66600"/>
            <a:ext cx="6095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xed mindsets in educa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hn’s fixed mindset can result in probl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tually, he will encounter a mathematical topic beyond his natural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is point, his refusal to study hard will stunt his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might cheat or lie to maintain his reputation for being “the best” at mathematic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 one experiment, 40% of fixed-mindset students who viewed themselves as having high abilities lied about poor test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refusal to take part in competitions (due to fear of failure) limits his opportunities in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a fixed mindset can cause you problems in education, regardless of your skil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83920" y="66600"/>
            <a:ext cx="6095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xed mindsets in educa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all that people with a fixed mindset are more likely to try to look good by comparison with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was verified by the following experi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s who did poorly on a test were given the chance to look at the test papers of other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s with a growth mindset looked at tests of students who did much better to find inspi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s with a fixed mindset looked at tests of students who did much worse, so they could feel better about them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22800" y="66600"/>
            <a:ext cx="24364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lf sabot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person with a growth mindset is comfortable admitting ignorance or limitations and seeking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contrast, a person with a fixed mind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es not like admitting ignorance or limitations for fear of people judging him or 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ght reject offers of help (because that would be admitting a probl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experiment concerned Chinese students attending an English-language univers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of the new students were not fluent in Engl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ose with a growth mindset accepted the offer of a free English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ose with a fixed mindset rejected the off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did not want to admit to any defici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is way, they sabotaged their own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22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jud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cept of a stereotype is closely related to a fixed mind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shows that people with a fixed mindset are more likely to believe derogatory stereo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th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ir ow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uggests that you can reduce prejudice indirec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ing a growth mindset to a population will have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e-effect of reducing prejudice in the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773160" y="66600"/>
            <a:ext cx="1523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lly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llying comes from a fixed mindse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volves passing judgement on other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st your own self-esteem (“I’m better than the victim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your social stand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thers may think you are cool, funny or powerful, or at least fear y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ctims of bullying cope better if they have a growth mind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reject the bully’s jud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eek to end the bullying through peaceful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ctims of bullying with a fixed mind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 the bully’s judgement (“I am worthless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more likely to dream of violent reve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86000" y="66600"/>
            <a:ext cx="2711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llying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chool tackled bullying by teaching students a growth mind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a few yea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bullying decreased 9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teasing decreased 5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28720" y="66600"/>
            <a:ext cx="2020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ixed mindset in a leader or manager can caus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may spend an organization’s money foolish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ing the organization is not a high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ing himself look good to the world is a higher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xurious office, company car (or jet airplane)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may humiliate subordinates who make mist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may try to sabotage the careers or projects of talented subordin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they threaten his “I’m the best” 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336840" y="66600"/>
            <a:ext cx="2455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examples of fixed-mindset thin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ry tales that end with two people falling in love and “they lived happily ever aft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ing for “Mr. Right” or “Miss Righ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ve means never having to say you’re sorry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famous quote from the book and 1970 movi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ve St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umption is that when you meet the “right” per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be a perfect match (without even try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always get along perf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1320" y="66600"/>
            <a:ext cx="7970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s with a fixed mindset in relationshi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-mindset thinking in relationships brings problems due to two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have to work at the relationship, it wasn’t meant to b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you are likely to end the relationship when problems a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s are a sign of permanent personality flaw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are likely to blame your partner when problems occur in the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, you will grow to feel contempt for your partner’s personality f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22160" y="66600"/>
            <a:ext cx="5854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growth mindset in relationshi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owth mindset says everything, including relationships, can improve with continued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we lived happily ever after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ttitud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we worked (at the relationship) happily ever aft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vitally important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tting each other’s expectations about roles and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lving problems (instead of assuming they indicate character flaw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 support rather than judgement.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ome home and find the house is messy because your partner is swamped with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your partner by clearing up rather than criticizing the m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14640" y="66600"/>
            <a:ext cx="48672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nding of a relationsh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r partner ends their relationship with you, your reaction depends on your mind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have a growth mindset, you will be hurt b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give your former partner for the hurt and wish them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o learn from mistakes in the relationship so you can have better relationships in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have a fixed mindset, you w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 this as your partner judging you to be unlov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 to seek revenge for this humil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ow to create a particular mindset in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85840" y="66600"/>
            <a:ext cx="4927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ng a mindset in ot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reate a fixed mindset by praising ability.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learned that so quickly; you’re so smar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’re a genius; you got an A without even studying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’s a great drawing. You’re going to be the next Picasso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reate a growth mindset by praising persistence in practice or study, and good strategies.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did well on that test; you must have worked har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put so much thought into that essay. It really makes me understand Shakespeare in a new wa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ssion you put into that piano piece gives me a real feeling of joy. How do you feel when you play it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71440" y="66600"/>
            <a:ext cx="1327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i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ius” is commonly thought to mean a superior ability that com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tural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 per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ther words, either you are born a genius or you are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are not born with the relevant abilities t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never be as intelligent as Albert Ein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never play basketball as well as Michael Jor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mmonly held understanding of “genius” is full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-mindset thinking. It is also w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mas Edison offered a more accurate definition, which comes from a growth-mindset thin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ius is 1% inspiration and 99% perspir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ter chapter of slide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urse of the Genius Labe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cusses genius in more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ixed mindset causes dysfunctional behaviour that harms you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owth mindset avoids such dysfunctional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to learn and teach a growth mind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nds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arol S. Dw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improve your ability to change the worl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adicating fixed-mindset thinking within your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ing a growth mindset to people and organizations you work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916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ol S. Dwe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a professor of psychology at Stanford University in the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s research in several areas, including 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experiment early in her career was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ildren were given simple puzzles to work 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o they could experience success initial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wards, they were given harder puzzles to work 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o they could then experience fail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tactics would the children use to cope with fail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actions of some children surprised 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seemed t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njo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ikelihood of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love a challenge”, “I wa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op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would be informative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54080" y="66600"/>
            <a:ext cx="3384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time, Carol S. Dweck developed a theory to explain this and other aspects of human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eory is very simple, but it has implications for many aspects of lif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, work, sports, relationship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pter explains the theory and some of its im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read details in the book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nd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Carol S. Dw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A simple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67960" y="66600"/>
            <a:ext cx="55594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wo mindsets: fixed and grow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ctionary definition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indse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mental attitude that predetermines a person’s responses to an interpretation of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ol Dweck identified two important mind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owth mind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matter what my skill level currently is, I can improve through continued practi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do not worry about making mistakes or failing because they provide opportunities for learn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xed mind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y skill level is fixed; I am either good or bad at something and there is not much, if anything, I can do to change my skill leve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y self-esteem is based on whether I am better or worse than other peop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46440" y="66600"/>
            <a:ext cx="3605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scellaneous no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ing a growth mindset is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ing a fixed mindset can result in many types of dysfunctional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ext section contains some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people have a mixture of both minds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 you might have a growth mindset for learning foreign languages and a fixed mindset for mathematics or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mindset can ch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oming aware of the concept of mindsets can help you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can be taught to have a particular mind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you are treated by others can influence which mindset you hav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is has implications for parents, teachers, coaches and manag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Dysfunctional behaviour arising from a fixed mind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5280" y="66600"/>
            <a:ext cx="6529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dentities arising from a fixed minds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ixed mindset can transform an action into an 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“I am a failure” identity can be bad for your mental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make a mista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ight sink into de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you might make excuses or assign blame to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denying responsibility, you deny yourself the opportunity to learn from mistakes or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ming others unfairly is a form of verbal ab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38080" y="1600200"/>
          <a:ext cx="3809880" cy="838080"/>
        </p:xfrm>
        <a:graphic>
          <a:graphicData uri="http://schemas.openxmlformats.org/drawingml/2006/table">
            <a:tbl>
              <a:tblPr/>
              <a:tblGrid>
                <a:gridCol w="1752480"/>
                <a:gridCol w="205740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16120"/>
                          <a:tab algn="l" pos="1631880"/>
                          <a:tab algn="l" pos="2448000"/>
                          <a:tab algn="l" pos="3263760"/>
                          <a:tab algn="l" pos="4079880"/>
                          <a:tab algn="l" pos="4896000"/>
                          <a:tab algn="l" pos="5711760"/>
                          <a:tab algn="l" pos="6527880"/>
                          <a:tab algn="l" pos="7343640"/>
                          <a:tab algn="l" pos="8159760"/>
                          <a:tab algn="l" pos="8975880"/>
                          <a:tab algn="l" pos="9791640"/>
                          <a:tab algn="l" pos="1060776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succeede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16120"/>
                          <a:tab algn="l" pos="1631880"/>
                          <a:tab algn="l" pos="2448000"/>
                          <a:tab algn="l" pos="3263760"/>
                          <a:tab algn="l" pos="4079880"/>
                          <a:tab algn="l" pos="4896000"/>
                          <a:tab algn="l" pos="5711760"/>
                          <a:tab algn="l" pos="6527880"/>
                          <a:tab algn="l" pos="7343640"/>
                          <a:tab algn="l" pos="8159760"/>
                          <a:tab algn="l" pos="8975880"/>
                          <a:tab algn="l" pos="9791640"/>
                          <a:tab algn="l" pos="1060776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am a succes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16120"/>
                          <a:tab algn="l" pos="1631880"/>
                          <a:tab algn="l" pos="2448000"/>
                          <a:tab algn="l" pos="3263760"/>
                          <a:tab algn="l" pos="4079880"/>
                          <a:tab algn="l" pos="4896000"/>
                          <a:tab algn="l" pos="5711760"/>
                          <a:tab algn="l" pos="6527880"/>
                          <a:tab algn="l" pos="7343640"/>
                          <a:tab algn="l" pos="8159760"/>
                          <a:tab algn="l" pos="8975880"/>
                          <a:tab algn="l" pos="9791640"/>
                          <a:tab algn="l" pos="1060776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faile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16120"/>
                          <a:tab algn="l" pos="1631880"/>
                          <a:tab algn="l" pos="2448000"/>
                          <a:tab algn="l" pos="3263760"/>
                          <a:tab algn="l" pos="4079880"/>
                          <a:tab algn="l" pos="4896000"/>
                          <a:tab algn="l" pos="5711760"/>
                          <a:tab algn="l" pos="6527880"/>
                          <a:tab algn="l" pos="7343640"/>
                          <a:tab algn="l" pos="8159760"/>
                          <a:tab algn="l" pos="8975880"/>
                          <a:tab algn="l" pos="9791640"/>
                          <a:tab algn="l" pos="1060776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am a failur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838080" y="1219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1219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d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24:33Z</dcterms:modified>
  <cp:revision>1148</cp:revision>
  <dc:subject/>
  <dc:title>The Learning Mindset</dc:title>
</cp:coreProperties>
</file>