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AB1438A-4B65-4E3B-8D6B-F1819966F8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5CCE9DE-3ECD-4B37-9B1C-CE9D467A41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1800" y="6660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fl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have the following experience occasio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cus your attention on an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involvement with the activity becomes deep but it seems effort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come unaware of your surroundings or the passing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experience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referred to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gr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z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flow has ended, you usually feel very happy and self-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is a psycholog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ndered “When are people happ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searching that question, he discovered the concept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: The Psychology of Optimal 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ains flow and explains why it is relevant to people who want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4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wareness of surroundings during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flow, people are often unaware of their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experimental evidence to support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the cerebral cortex is associated with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 had activity in their cerebral cortex measured before and during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involved individuals paying attention to flashes of light or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rarely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often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while in flow, your brain processes only inputs relevant to the task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9000" y="66600"/>
            <a:ext cx="6942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provides opportunities for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enter a state of flow when your skills are just good enough for the challenge of the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kills improve, you must increase the challenge to remain i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flow provides opportunities for learning and improv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state of flow has ended, you feel hap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your skills or knowledge hav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7520" y="604440"/>
            <a:ext cx="6321240" cy="3061440"/>
            <a:chOff x="1217520" y="604440"/>
            <a:chExt cx="6321240" cy="3061440"/>
          </a:xfrm>
        </p:grpSpPr>
        <p:sp>
          <p:nvSpPr>
            <p:cNvPr id="94" name=""/>
            <p:cNvSpPr/>
            <p:nvPr/>
          </p:nvSpPr>
          <p:spPr>
            <a:xfrm>
              <a:off x="1598400" y="762120"/>
              <a:ext cx="5791320" cy="25146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247600">
              <a:off x="1281960" y="1815840"/>
              <a:ext cx="641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8400" y="7621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8400" y="327672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4720" y="3353040"/>
              <a:ext cx="5715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k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154800" y="1824480"/>
              <a:ext cx="2438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44600">
              <a:off x="1425240" y="1941480"/>
              <a:ext cx="592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 is suitable for skill level </a:t>
              </a:r>
              <a:r>
                <a:rPr b="0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3720" y="228600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easy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bored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0680" y="106704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hard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x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66600"/>
            <a:ext cx="785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experience flow for a particular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ctivity varies from one pers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laying chess, painting, mountain climbing, swimming, reading, gardening, writing, composing music, playing a spor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bor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boring situation into an intere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man, had a repetitive boring job on a factory assembl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sk performed on each unit was supposed to take 43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himself the challenge of doing 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a five-year period, he reduced his time to 28 second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40" y="66600"/>
            <a:ext cx="894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ass time in boring meetings, a man composed complex sequences of finger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times of st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stressful situation into an invigorating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from former priso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chess against yourself in you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nd memorise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imaginary conversations in a fore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Hungarian prison, inmates kept themselves occupied for over a year by secretly running poetry translation compe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and the meaning of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claims that flow can help you to find the meaning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og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meaning of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hatever provides you with meaning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find meaning in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requently doing an activity that puts you in a state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80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changing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s why flow is relevant to people who want to change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world takes a lot of time and eff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not have the required endurance if there is a lot of anxiety or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r effort frequently puts you in a state of flow then you will find it to be deeply satis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ggests two useful pieces of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of changing the world should be based on flow-indu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is not feasible then invent mind games to help you enter a state of flow for boring or stressfu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03Z</dcterms:modified>
  <cp:revision>1121</cp:revision>
  <dc:subject/>
  <dc:title>Flow</dc:title>
</cp:coreProperties>
</file>