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861168C-3CBE-48F4-B63F-652BA3AEF8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9946C25-2667-485E-A5EB-8BCBB19B43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1400" y="66600"/>
            <a:ext cx="668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the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starting the experiments, Stanley Milgram asked some colleagues to predict the outcome of the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predi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/3 of the teachers would refuse to continue the first time the learner demanded the experiment be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1 in 1000 teachers would continue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8000" y="66600"/>
            <a:ext cx="47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ual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s of the experiment surprised every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ity of teachers continued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rprising result is what caused Milgram to do so many variations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trying to discover the factors that might cause peopl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ob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s w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d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presented a wide variety of 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isplayed signs of increasing stress as the experiment wen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rgued and pleaded with researchers to stop the experiment, but continued reluctantly when the researcher asked them to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nsights from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0040" y="66600"/>
            <a:ext cx="5302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ghts into human behavi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provide some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humans have a strong urge to obey authorit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instructs them to do something against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uthority” does not have any means to punish people wh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faced with a conflict: (1) do something wrong or (2) disobe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ass the responsibility for the wrong-doing to the figur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“I was only following orders” defence of wa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icting hurt on another person can cause you to despise th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your conscience retrofits reasons to justify you hurting th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5680" y="66600"/>
            <a:ext cx="777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the relevance to changing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insights are interesting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are not necessarily relevant if you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do provide other insights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discussing those insights, we need to take a slight d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66600"/>
            <a:ext cx="724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heory to explain obedience to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edience to Authority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ley Milgram presents a theory to expla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obey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gram notes that authority hierarchies are ubiquitous in huma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: children obey parents; one spouse obeys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n, schools, places of work, the army, hospitals, team sports, systems of government, policing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 hierarchies can also be observed in other anim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ubiquity suggests that authority hierarchies might be intrinsic to the nature of humans (and other spe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4960" y="66600"/>
            <a:ext cx="512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ny 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competition among individuals will wipe out th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gives individuals a conscience that limits compet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ciety in which each individual is a “Jack of all trades and a master of none” has a poor chance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ivision of labour increases a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visions of labour can be coordinated with a hierarchy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to work, individuals must be willing to obey author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mproves the survival chances for the society (and it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stopped (viciously if necessary) because they decrease the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has decided that (2) takes precedence over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a strong instinct to obey autho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10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cting within a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views himself as acting out of his own purposes but rather comes to see himself as an agent for executing the wishes of another pers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an individual does not feel guilt if he obeys orders to do something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just following or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ity is still present, but with a different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vidual “feels shame or pride depending on how adequately he has performed the actions called for by auth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w discuss some insights relevant to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use dirty tactics to fight terr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also use dirty tactics to investigate peaceful protestors or those who publicly express criticisms of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any has being doing a particular task the same way for y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finds a different and better way to do the sam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’s idea might be sup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might be punished or s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autobiography contain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2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son Mandela was held at Robben Island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anding officer with a reputation for brutality was moved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manding officer made life hell for the pris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commanding officer was being transferred to another prison, he surprised Nelson Mandela by wishing him “Good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ing officer “was not evil; his inhumanity had been foisted upon him by an inhuman syst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dience drops if the teacher is aware of the learner’s p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learner into the same room as the tea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teacher force the learner’s hand onto a metal plate to administer the electric sh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bedient teachers tried to sabotage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mphasised the correct answer when reading a list of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xperimenter was not in the room then they administered the lowest voltage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life analogy is an employee who leaks sensitive information to activist groups or journ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ere done on a group of 3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eacher read questions, another indicated if the learner’s answer was right or wrong, and the last teacher administered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eacher was a volunteer; the other two were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obey then the volunteer teacher’s obedience increases (to 9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disobey then the volunteer teacher’s obedience decreases (to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ments show the importance of group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y people in authority m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ick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dis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ley Milgram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edience to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eople can easily do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Milgram’s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has decided that obedience to authority takes precedence over an individual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often subdued, with violenc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loyees with a troubled conscience may leak sensitive information to activists or journ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ffects play an important role in obed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World War II, nazi leaders were tried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accused claimed “I was just following orders” as their (unsuccessful)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was a social psychologist at Yal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curious about the “I was just following orders”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ecided to test the willingness of people to follow orders that conflict with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s of his experiments were pub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in academic journals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ater in his 1974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es the experiments and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ir relevance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Description of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000" y="66600"/>
            <a:ext cx="53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ion of the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the public were recruited to take part in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old it was to test the effects of punishment o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periment consist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learner” who was strapped into an electric chair in one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teacher” who sat in another room. He used an intercom to ask the learner multiple-choic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pressed one of 4 buttons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answer was wrong then the teacher pressed a button to administer an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ectric shocks increased in intensity for each incorrect answ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rom 15 volts to 450 volts, in 15-volt inc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“experimenter” (in a lab coat) supervised the teac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earner’s screams of pain disturbed the teacher, the experimenter asked the teacher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al purpose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the teacher and learner were members of the public recruited to take part i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s of “teacher” and “learner” appeared to be randomly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 did not realiz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random” assignment of roles was ri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was an actor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tend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ceive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’s right and wrong answers and cries of pain were scrip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eyond a certain voltage level, the learner remained quiet, indicating that he might be unconscious or d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l experiment was to test obedience to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ticular, when obedience meant doing something contrary to one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hat point would the teacher refuse to continue the experi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52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ations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 was performed on 40 “teachers”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a change was made and the modified experiment was repeated on 40 new “teach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variations of the experiment were performe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men or women in the role of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mild-mannered or hard-looking actor in the role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the learner complain of hear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student in the same room as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ing the teacher to press the student’s hand onto a metal plate to give the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“experimenter” into another room and enabling the teacher to contact him by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ding the teacher’s duties among 3 people (2 of whom were actors) and having the two actor-teachers refuse to continue the experiment at particular vol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pectations and results of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5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st expectations for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realiz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er would not have “real” authority over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unteer teacher cou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ined, imprisoned or sacked for disob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the experiment could not replicate realistic situations of authority in, for example,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tanley Milgram thought his “modest” experiment would 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might provide some insights to help him develop better experiment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5:36Z</dcterms:modified>
  <cp:revision>1172</cp:revision>
  <dc:subject/>
  <dc:title>Influence</dc:title>
</cp:coreProperties>
</file>