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D73924D-3A9D-42EC-AFCB-9C368B2927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F92AEA0-8E5A-4757-B7E6-B8C6178BC1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69920" y="66600"/>
            <a:ext cx="334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, confirmation bias can be seen in the actions of a government or the senior managers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overnment examines available information and makes a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policy is implemented, new information is found that suggests the policy might be a ba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’s response might display confirmation b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any information that discredits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(or invent) other facts that support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9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 of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pochondriacs may ignore the “healthy” signals from their bodies and instead focus only on the “unhealthy”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confirmation bias may worsen paranoia or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ayings allude to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only get one chance to make a good first impres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mportant to keep an open m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is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an ang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ood for 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ne’er do well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ne’er” means “nev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4840" y="66600"/>
            <a:ext cx="8804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firmation bias leads to self-fulfilling prophe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lf-fulfilling prophecy can be rooted in belief of a stere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on stereotype is that physically attractive people are more sociable, confident and humorous than physically unattrac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 were asked to have telephone conversations with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un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n’s behaviour during the telephone calls was influenced by what he had been told about a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urn, this influenced how the woman responded to 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ffect, a man’s expectations of a woman became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firmation bias and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66600"/>
            <a:ext cx="769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difficult to recognise our own preju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recognize and condemn prejud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en you read about prejudice in anothe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ifficult to recogn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jud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ot consciously realize you dislike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onsciously realize you dislike a group but think the dislike is based on a good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you accept you have a prejudice, it may not be safe to publicly admi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hink the world would be a better place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ped being prejudiced.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recognize and adm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then how can you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cognize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5520" y="66600"/>
            <a:ext cx="645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say to Fred: “You are raci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reaction from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s that you have accus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Fred does not like being accused, he will try to defend himself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ying he did anything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to justify his beliefs o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-attac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ances of changing Fred’s prejudiced beliefs and behaviour are s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6640" y="66600"/>
            <a:ext cx="68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tter way to tackle prejudice might be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ncept of confirmation bias to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examples that have nothing to do with preju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wide variety of examples to show that confirmation bias is ubiqui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xplain how confirmation bias plays a role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ld is repeatedly told stereotypes about “X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ld assumes this information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when the child grows up and encounters X people, s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behaviour that 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otice behaviour that dis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on the 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6660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sk if some of Fred’s beliefs might be a result of confirmatio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ctic is likely to be more successful, for sever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is less likely to get defensiv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rmation b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 less like an accusation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c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explained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s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will be able to think of non-racist examples of confirmation bias in his ow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made Fred aware of a general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he might use knowledge of confirmation bias to re-examine some of his other possibly-prejudiced beliefs towards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firmation 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is ubiquit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in astrology, fortune telling, gambling, scientific theories, medical treatments; our perceptions of other peopl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plays a big part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ing knowledge of confirmation bias might help to make people aware of their own prejudices in a non-accusator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6212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60, Peter Wason performed the following experi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n three numbers (a triplet), for example: 2, 4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ld the numbers conformed to a particula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ed to generate their own triplets, and they would be told whether each triplet conformed to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erson was sure what the rule was, they should announc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di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uce the correct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rrect rule was “any sequence of increasing numb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ought the rule was different, for example, “successive even numbers” or “numbers increasing by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ested their hypothesis only with triplets that agreed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4960" y="66600"/>
            <a:ext cx="3384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on’s experiment provides an example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details,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firmation Bias: A Ubiquitous Phenomenon in Many Gui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Raymond S. Nickerson, in Review of General Psychology 1998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 2, number 2, pages 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ome more examples of confirmation bia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ost are taken from the above 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how it is relevant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s of confirmation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66680" y="66600"/>
            <a:ext cx="336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king predi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ties are based on an ability to make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strology, fortune telling, gam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predictions will be correct; some will be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lie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correct predictions as evidence to support your 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in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belie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incorrect predictions as evidence to support your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4400" y="66600"/>
            <a:ext cx="4751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dging people’s charac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ere asked to comment on the sociability and friendliness of a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’ comments were heavily influenced by how the guest lecturer had been described before the lecture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formed an initial opinion based on the description of the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used this initial opinion as a filter when observing the lecturer’s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noted behaviour that confirmed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ignored behaviour that disagreed with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9520" y="66600"/>
            <a:ext cx="14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istory of science shows a recurring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believe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theory, Y, is developed that contradicts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continue to believe X due to the limited evidence in support of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more and more evidence in support of theory 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is happens, more and more scientists start to believe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pattern of behaviour is good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ew individual scientists will suffer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ill ignore or disbelieve the new evidence and continue to believe theory X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0600" y="66600"/>
            <a:ext cx="39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scientific medic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edical practices continued for decades or centuries before doctors realized they were ineffective or harm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 practice of bleeding a patient was widespread for about 20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explained by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a particular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was viewed as evidence of the treatment’s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the same treatment did not recov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who did not receive the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also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8:04Z</dcterms:modified>
  <cp:revision>1168</cp:revision>
  <dc:subject/>
  <dc:title>Confirmation Bias</dc:title>
</cp:coreProperties>
</file>