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8290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gnitive Disso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4CB94DA1-0275-4B2D-84A8-8E3320627EE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C0299052-F625-43AA-99D0-19054BD2A12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gnitive Disson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5240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disson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n uncomfortable feeling caused by holding two contradictory ideas (cognitions) at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rms comes from two wor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gni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he act or process of knowing; per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sonan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lack of harm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rci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of somebody you dislik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nse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an be somebody you know personally or somebody fam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try to think of something you like or admire about that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oing so makes you feel uncomfortable then that is an example of cognitive disso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2240" y="66600"/>
            <a:ext cx="8689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gnitive dissonance can cause confirmation bi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we have a strong opinion about Fred’s persona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ther he is very charming (good) or obnoxious (b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might assume that Fred is equally “good” or “bad”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rela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ys.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ssume he is hard-working (good) or lazy (b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ssume he is honest (good) or dishonest (b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way, we can maintain a polarized opin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d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tally goo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harming, hard-working and honest). 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d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tally ba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bnoxious, lazy and dishon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rmation bias suggests that we may ignore any evidence that contradicts our belief about F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ight be better to recognize both good and bad in F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at could result in cognitive disso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87480" y="66600"/>
            <a:ext cx="53834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other people perceive yo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dissonance and confirmation b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ffect how you view other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lso affect how other people view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eople do not have a strong opinion abou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a few people do have a strong and very polarized opinion of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of them think you are totally gr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, unfortunately, some others think you are a total j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24040" y="66600"/>
            <a:ext cx="3821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ing your care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: What happens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colleagues think you are a total jerk, an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a great idea for improving business (or changing the world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an produce cognitive dissonance in the minds of your colleag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find it difficult to like your idea while simultaneously disliking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rmation bias will probably result, and they will ignore or ridicule your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career will g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ch bett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do not give people reasons to think you are a jerk. S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way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po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win an argument in a way that makes people think you are a j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34880" y="66600"/>
            <a:ext cx="4632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iving personal in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ho try to bring about change often face criticis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expect criticisms of their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y also receive personal in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ard Stallman is an activist for “free softwar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people criticise his ide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of those people also criticise his personality and appea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dissonance can explain why this happe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difficult to dislike one aspect of a person while liking another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 you dislike (or like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veryth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the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arguing that a person has a character fault is subconsciously thought of as being equivalent to arguing against that person’s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68400" y="66600"/>
            <a:ext cx="1741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disson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n uncomfortable feeling caused by holding two contradictory ideas (cognitions) at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rms comes from two wor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gni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he act or process of knowing; per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sonan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lack of harm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disson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 cause of confirmation bia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you can remove dissonance by ignoring one of the conflicting view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ause us to have polarized views of peop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person is “totally good” or “totally ba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agues who think you are a “total jerk” will ignore your great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may attack you personally instead of attacking your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6-30T12:55:59Z</dcterms:modified>
  <cp:revision>1169</cp:revision>
  <dc:subject/>
  <dc:title>Confirmation Bias</dc:title>
</cp:coreProperties>
</file>