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764338" cy="98853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123840" y="6448320"/>
            <a:ext cx="4695840" cy="408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rn a Weakness into a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B84FFC24-0B67-4261-9BB2-B70E09218F6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601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8160" indent="-16344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-16056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6320" y="51768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47712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466D4EAF-7715-459B-847E-1950772EA60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84120" indent="0" algn="ctr">
              <a:spcBef>
                <a:spcPts val="499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1424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4472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22280" algn="ctr">
              <a:spcBef>
                <a:spcPts val="24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Turn a Weakness into a Strength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6094440"/>
            <a:ext cx="3071880" cy="758880"/>
          </a:xfrm>
          <a:prstGeom prst="rect">
            <a:avLst/>
          </a:prstGeom>
          <a:ln w="0">
            <a:noFill/>
          </a:ln>
        </p:spPr>
      </p:pic>
      <p:pic>
        <p:nvPicPr>
          <p:cNvPr id="84" name="4000E30Nf" descr=""/>
          <p:cNvPicPr/>
          <p:nvPr/>
        </p:nvPicPr>
        <p:blipFill>
          <a:blip r:embed="rId2"/>
          <a:stretch/>
        </p:blipFill>
        <p:spPr>
          <a:xfrm>
            <a:off x="3429000" y="259092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901600" y="66600"/>
            <a:ext cx="32828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ir Arthur Pears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ir Arthur Pears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unded th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Daily Express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wspaper in Eng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adually lost his eyesight due to the disease Glauco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en World War One start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thur heard about a soldier who had been blinded in bat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realized that many other soldiers would also be blin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y default, most of them would lead “hopeless and useless live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thur founded a hospital, St Dunstan’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t the hospital, soldiers could “learn to be blind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eing blind himself, Arthur was able to inspire and teach the sold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668400" y="66600"/>
            <a:ext cx="17413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y people have a weakness of some sor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erhaps a dis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erhaps a lack of skill, social etiquette or mon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weakness does not have to hold you 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times it is possible to turn a weakness into a str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13120" y="66600"/>
            <a:ext cx="14479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icen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right © 2009 Ciaran McHa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ssion is hereby granted, free of charge, to any person obtaining a copy of t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ining course and associated documentation files (the “Training Course"), to deal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raining Course without restriction, including without limitation the rights to u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, modify, merge, publish, distribute, sublicense, and/or sell copies of the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urse, and to permit persons to whom the Training Course is furnished to do s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ject to the following condi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above copyright notice and this permission notice shall be included in all cop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substantial portions of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RAINING COURSE IS PROVIDED "AS IS", WITHOUT WARRANTY OF 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IND, EXPRESS OR IMPLIED, INCLUDING BUT NOT LIMITED TO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ARRANTIES OF MERCHANTABILITY, FITNESS FOR A PARTICULAR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D NONINFRINGEMENT. IN NO EVENT SHALL THE AUTHORS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RIGHT HOLDERS BE LIABLE FOR ANY CLAIM, DAMAGES OR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ABILITY, WHETHER IN AN ACTION OF CONTRACT, TORT OR OTHERWI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ISING FROM, OUT OF OR IN CONNECTION WITH THE TRAINING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THE USE OR OTHER DEALINGS IN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globe logo is from www.mapAbility.com. Used with permis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441240" y="66600"/>
            <a:ext cx="21970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y people have a weakness of some sor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erhaps a dis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erhaps a lack of ski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can you do with a weakness you ha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could use it as an excuse to not try to succeed. Or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could find a way to turn the weakness into a streng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chapter provides some examples of people who turned a weakness into a str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422520" y="66600"/>
            <a:ext cx="2237040" cy="7729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Jamie Oliv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amie Oliver is a celebrity chef in Eng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suffers from dyslex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ow could he turn that disability into a benefi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people with dyslexia find ways to express themselves that do not involve reading or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 example, through art or physical mov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amie uses a lot of body movement when communica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makes him work well in front of a came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fact, this helped him get his initial contract to be a TV che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TV chef needs to write recipe boo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amie dictates his recipe books (9 so far) into a tape recorder and gets somebody else to type th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ctation is probably a faster way to write than typing or pen-and-pap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341160" y="66600"/>
            <a:ext cx="23972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ruce Jenn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ruce Jenner won a gold medal in the 1976 Olympics in the decathl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has dyslex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Bruce, the difficulty of reading taught him to work hard to achieve go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I wasn’t dyslexic, I probably wouldn’t have won the Games. If I had been a better reader then that would have come easily, sports would have come easily… and I never would have realized that the way you get ahead in life is hard work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517920" y="66600"/>
            <a:ext cx="20383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Bob Geldof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ob Geldo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chieved fame as the lead singer of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The Boomtown Ra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co-authored the Band-Aid singl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Do They Know It’s Christmas?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helped organize Live Aid (and, 20 years later, Live 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ob’s weakness is that he is tactless and often says the wrong th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held back the career of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The Boomtown Ra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ob was able to turn this drawback into a benef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enabled him to say things to world leaders that other people were too timid to s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0">
              <a:spcBef>
                <a:spcPts val="499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62160" y="66600"/>
            <a:ext cx="30276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Richard Stallma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ile growing up, Richard Stallman was a social outca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ue to a combination of poor social skills, a lack of interest in popular culture, his high intelligence and geekines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e turned this into a strengt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eing a social outcast meant that he grew used to rejection. So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did not fear yet more rejection when he started to develop free soft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81040" y="66600"/>
            <a:ext cx="25146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nita Roddic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ita Roddick founded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The Body Shop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er weakness was very limited fin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 example, she could not afford “proper” packaging bottles for shampo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cheapest bottles she could find were urine sample bott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e asked customers to bring back empty bottles for refi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concept of cheap, reusable packaging became a str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fit in with ideas of environmental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65320" y="66600"/>
            <a:ext cx="13460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Gandh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andhi’s weakness was a fear of public speak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greatly hindered his social life and his career as a lawyer in In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andhi turned his weakness into a strengt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thought carefully about what he wanted to say before he opened his mou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ecause of thi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learned to communicate concise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rarely said things that he later regret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ventually, Gandhi overcame his fear of spea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t he continued to think carefully before spea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11-29T12:26:44Z</dcterms:created>
  <dc:creator>Ciaran McHale</dc:creator>
  <dc:description/>
  <dc:language>en-US</dc:language>
  <cp:lastModifiedBy>Ciaran McHale</cp:lastModifiedBy>
  <cp:lastPrinted>2002-08-30T21:11:41Z</cp:lastPrinted>
  <dcterms:modified xsi:type="dcterms:W3CDTF">2009-07-08T22:29:22Z</dcterms:modified>
  <cp:revision>1120</cp:revision>
  <dc:subject/>
  <dc:title>Turn a Weakness into a Strength</dc:title>
</cp:coreProperties>
</file>