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ve Deb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4ABB4EE-810B-477A-BD82-9B290D9E06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D68964B-3B70-4038-8424-70097DA064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uctive Deb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80800" y="66600"/>
            <a:ext cx="3132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effective deb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are like most people then you probably do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asionally have a new idea: “Hey, I thought of a good way to do 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you think about the idea it seems better and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ll your idea to somebody else and they say “It is flawed because 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think the other person is too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ther person thinks you are stupid or naï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ecide it is too frustrating to share your ideas with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tend to view ideas in a one-sided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we initially think an idea is good then we look only for reasons to support that view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wise, if we initially think an idea is bad the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view a debate as a competition with a winner and a 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79200" y="66600"/>
            <a:ext cx="3560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Wright Br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right Brothers flew the first airplane in 190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pent 4½ years doing research into flying before they succ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this time they developed and tested many 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father taught them a way to debate productiv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dinner table he picked a topic for deb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brother argu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opic and the other argu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gain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a while, the father asked them to switch sides in the deb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doing this, the br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t to look at an issue from multiple (at least two)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ewed debating not as competition, but as a cooperative way to uncover the 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rothers used this tactic frequently in thei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elped them beat aviation researchers who had better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85920" y="66600"/>
            <a:ext cx="2927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dward de Bo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ward de Bono coined the ter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ateral thinking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s written many books on techniques to impro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teral Think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one of his first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more up-to-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work was inspired by his academic research into phys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tailed discussion of his ideas is outside the scope of this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the next few slides provide a brief outline to arouse your curi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1120" y="66600"/>
            <a:ext cx="4114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dward de Bono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(imaginary) hats have different colou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te denotes objective facts and beliefs (that is, unchecked fa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 denotes emotions. Example: “I don’t know why, but I don’t like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llow denotes optimism, hope and posi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denotes caution. It is used to point out weaknesses in a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en denotes creativity and new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ue is used by the facilitator to control a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acilitator puts on his blue hat and might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ant to discuss &lt;topic&gt;. We will use &lt;sequence of hats&gt;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, put on your &lt;colour&gt; ha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body gives comments according to the current 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acilitator tells the group when to switch to another h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cilitator uses the blue hat at the end to conclude th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75000" y="66600"/>
            <a:ext cx="4114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dward de Bono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se of imaginary hats serves a few purpos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elps people to explore an idea from different view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right brothers’ technique explored an idea from two view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ats help you explore an idea from five different view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removes people’s egos from the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rybod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oks for flaws when wearing the black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rybod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oks for positive ideas when wearing the yellow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useful detail that is outside the scope of this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very readable and quite short (less than 200 p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debates are not productive because they are 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right Brothers used debate in a more construct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witched sides, so they could tease out the truth of the issue a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ward de Bono’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more r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an ego-less way to examine an issue from five view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30:41Z</dcterms:modified>
  <cp:revision>1123</cp:revision>
  <dc:subject/>
  <dc:title>Constructive Debate</dc:title>
</cp:coreProperties>
</file>