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2153C52-B704-426B-9C56-5214077F77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564592A-75E1-45B9-8D0D-F0B0817013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66600"/>
            <a:ext cx="6334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home school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ritics of the regular school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believe schools teach a lot tha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l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 they believe schools teach a lot tha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rmfu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t of this harm involves destroying entrepreneurial spir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spaper articles about a business tycoon might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chieved his great suc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ving school at the age of 1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the newspaper article should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chieved his great suc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eft school at the age of 1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think “I’m not educated enough to change the wor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’t need a Ph.D. or MBA, or even a high school dipl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7560" y="66600"/>
            <a:ext cx="569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bliography for home schoo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discussion of home schooling is outside the scope of 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interested in this topic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by reading personal accounts of home-schooling famil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 Range Edu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ited by Terri Dow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eenage Liberation Hand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Grace Llewell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 L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ited by Grace Llewell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theory and history of home schooling, read books by John Hol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John Taylor Ga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is common to many successful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biographies explicitly mention lifelong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learners are leaders, but the research clearly shows that the strongest leaders are continuous learners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im Cle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do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to involve formal edu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it is done by reading a wide range of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by trying new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ate of flow helps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-schooling books are interest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disagree with much of what they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ritiques of regular schooling can be insigh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uggest effective ways to learn without the expense of sch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 help you to increase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7120" y="66600"/>
            <a:ext cx="605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importance of lifelong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graphies of people who have changed the world indicate that they never stopped lear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earned partly because they enjoye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things they learned provided inspiration for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, they got cross-fertilization of ideas from differen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 (and artic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5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learners are leaders, but the research clearly shows that the strongest leaders are continuous learners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im Clemmer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jimclemmer.com/leadership-and-learning-are-indispensable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 increase your chances by continually learning throughout you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ractical issues for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01440" y="66600"/>
            <a:ext cx="551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ques for lifelong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can take different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read books in their spa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eek out new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all from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low experience provides a challenge so it promotes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any successful people, continual learning rarely involves formal edu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graphies indicate many successful people actually dislike form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66600"/>
            <a:ext cx="326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rning par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aware of “learning paralys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nding years to learn something “properly” before you start do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reality, there are two ways to lea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. The practice will make you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, and complement this with reading about the 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ing about a subject is rarely sufficient by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rigin of learning paralysis might be in the school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ools use book reading and lectures as the primary learning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through practice is much less common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. The practice will make you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ment the “doing” with learning, but don’t postpone the “do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Home sch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1440" y="66600"/>
            <a:ext cx="4430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home school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me school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learning at home instead of in a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amily might choose home schooling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mily travels constantly (perhaps in a circus) so children cannot be enrolled in a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hildren struggle academically in school or are bul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hildren learn best in their own time and at their own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school is best or is the onl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e schooling is an inferior substitute, to be used only if attending a regular school is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a growing number of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school is actively harmful t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e schooling is pref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59120" y="66600"/>
            <a:ext cx="514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home schoo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 schooling is relevant to this course in several wa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lack the confidence to try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ttending regular schools destroyed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books about home schooling offer good critiques of what problems exist in regular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gain a “It’s not just me” or “It’s not my fault” insight that can restore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you suffer from learning par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s about home schooling explain wh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can be a better way to learn than ju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ading abo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gain the confidence to do things imperfectly now rather than wait until you are an expert before you start to do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35:12Z</dcterms:modified>
  <cp:revision>1125</cp:revision>
  <dc:subject/>
  <dc:title>Lifelong Learning</dc:title>
</cp:coreProperties>
</file>