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443D320-7D82-4224-BC31-6C8B7DB315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242F08E-166D-4393-AFA6-601C3CC018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eel constrained by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ways to help the world by doing things that you lik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63360" y="66600"/>
            <a:ext cx="5403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activism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ving a placard and shouting angry slogans in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ng flyers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part in endless committe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ing for hours with a collection bucket to raise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letters to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do those thing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 things that you don’t enjoy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find them tedious and frus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quickly giv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ever activism you do should be enjoyable and re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will look forward to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on’t get stressed or bur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652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’t limit yourself to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focus on your innate skills or activities you find pl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use them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teaching or explaining th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t of activism involves educating the public. Coul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good writing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write leaflets, articles or books about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enjoy photograp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think of ways these skills might be useful to an activi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decor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help redecorate the headquarters of an activist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6800" y="66600"/>
            <a:ext cx="7364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coo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cook lunch when an activist group has an all-day mee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dreams of being a film dir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make a documentary relevant to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like gard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righten up the activist headquarters with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grow a particular type of flower in large quant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l in a fund-raising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in a dramatic way at an activist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2424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Ciaran McH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’s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ing complex issues and re-explaining them more sim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training courses (mainly about computer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kills are not stereotypical activis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 used those skill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a lot about people who have change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tivists, entrepreneurs, inventors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noticed they shared many skills and faced similar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this training course to explain those skills and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the training course availabl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help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cquire skill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do this on a massiv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s are given in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wo Kinds of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felt proprietary software was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have “power over people” to force companies to make their software non-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he had “power to help people” by writing his own non-proprietar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’s non-stereotypical activist skill was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35120" y="66600"/>
            <a:ext cx="4019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Joanna Ru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anna Russ’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n author (mainly science f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ep knowledge of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frustrated that literature written by women is often dismissed as being inferior to literature written b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research, she identified several historical ways women’s writing had been sup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documented this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Suppress Women’s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056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ask yourself what the world needs. Ask yourself what makes you come alive, and then go do that. Because what the world needs is people who have come aliv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ard Thurman (18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1), American author, philosopher, theologian, educator and civil right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work is to discover your work and then with all your heart to give yourself to i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d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ing sometimes for the war that I f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Cause every tool is a weap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it 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 diFranco in her so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I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31T16:35:51Z</dcterms:modified>
  <cp:revision>1118</cp:revision>
  <dc:subject/>
  <dc:title>Non-stereotypical Skills for Activism</dc:title>
</cp:coreProperties>
</file>