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23D3D47-A1AE-41A1-AB6C-9B487504E8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B8D2546-0513-4D77-92DE-3FFD63BE74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ing is a fundamental ski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orms of scalable communication require good writing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books, articles, letters to newspapers, fl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the script for making a video docu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well-structured PowerPoin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how to write well is taught badly in many schools and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person or group who can proofread your work and give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in your local library for a list of local writers’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a work colleague who writes well to give you feedback on you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that provide advice on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communicate in way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instant g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s a lot of up-front investme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skills that ar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expensiv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have a much bigger impact than one-to-on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 the time to produce scalable communic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1320" y="66600"/>
            <a:ext cx="257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ypical 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a passionately held vision for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he needs to do is convert “enough” people to hi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tries to convert people through convers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one-to-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ork, bus stops, pubs, parti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eks he talks to just 2 people, other weeks he talks to more tha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never manages to talk to “enough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riends think he is boring because he talks about only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becomes frustrated by his lack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29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’s communication technique is not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in-depth conversion lasts, say, 30 minutes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speaks for 8 hours each day, that’s just 16 people per d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80 people in one week, assuming he speaks 5 days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obably needs to share his message with tens of thousand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even millions) of people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, Fred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communicate wit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communicate without him being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6960" y="66600"/>
            <a:ext cx="6451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techniques for 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 letter or article in a national newspap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ership measured in m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video documentary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a PowerPoint presentation onto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a musician, write a song about the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ntastic if you can get a famous group to rec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ely, make an MP3 version available for fre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website that contains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it in paper format. Or make it available on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your own newspaper, newsletter or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520" y="66600"/>
            <a:ext cx="846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nie Leonard and “The Story of Stuff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ie Leon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n environmental activ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ed a lot to speak to different groups about environment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nted a more scalable way to communicate he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ote a script for a 20-minute “talking head”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ed with a small team to shoot the video and add cartoon-style animation to complement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de the finished video available free-of-charge on a website: www.storyofstuff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has been viewed over 6 million times in its first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bsite encourages visitors to download it and host screenings in thei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66600"/>
            <a:ext cx="801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bining several communica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Gore combined several scalable communic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rote a slide-based presentation about climate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esented this more than 1000 time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ation was filmed 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Inconvenient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than 2 million people in cin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newspapers and TV programs reviewed this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people through DVD sales and ren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ies of the DVD were distributed to schools in several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ion book wa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and movie promote a website that has more information (www.climateCrisis.n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4920" y="66600"/>
            <a:ext cx="6154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rriers to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mainly use non-scalable communicatio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ly because they provide instant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lable communication requires lots of up-fro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ight take weeks to write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o put in all that effort before the target audience see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skills that are r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ility to express yourself in a clear, simple and concise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kills with computers, audio and video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exp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computers, audio and video recording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3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ining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at forms of scalable communication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“I want to a make a documentary” or “I want to write a bo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the skills and equipment you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up for the equipment or ask for it as a birthday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can get it cheaply on eBay or free on Fre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gain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with the equipment as a h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somebody more experienced to ment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relevan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a local enthusi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02T13:13:39Z</dcterms:modified>
  <cp:revision>1109</cp:revision>
  <dc:subject/>
  <dc:title>Scalable Communication</dc:title>
</cp:coreProperties>
</file>