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se of the “Genius” 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90F392A1-A5EC-46D5-93C9-23604F8D7E3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51CA4716-E71B-4795-B51A-28C4A1FC856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urse of the “Genius” Lab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25240" y="66600"/>
            <a:ext cx="6249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blems with being called a geni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ople may develop unrealistic expectations of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think “You’re a genius so you can do anyth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usually impossible to live up to their unrealistic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then people become disappointed in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one of these disappointed people is your manager then bonuses, pay rises and promotions may occur less frequ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think something developed by a genius must be compl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’d have to be a genius to understand tha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they won’t bother trying to understand your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makes it difficult for you to promote the results of your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problems mean “You are a genius” is more of a curse than a compl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19040" y="66600"/>
            <a:ext cx="65534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nrealistic expectations of a “genius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esting artic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t Isn’t Easy Being a Geniu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Jim Collins, New York Times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 September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nytimes.com/2005/09/19/opinion/19collins.html?_r=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ief summa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uthor was called a genius by the US national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a result, people developed unrealistic expectations of h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mily, friends and strangers asked hi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investment advice, questions on unusual su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listen to theories they h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iends were frustrated he wasn’t better at playing Trivial Purs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young daughter was disappointed when he was no good at playing a children’s card 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lleagues assumed his research papers were all accepted for pub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 Advice and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90520" y="66600"/>
            <a:ext cx="1289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nish “genius” from your vocabulary because of ambigu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es it mean a high IQ or natural abil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does it mean inspiration plus hard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ead, explicitly say what you mean. 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are very intelligen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t is a good bit of inspir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m impressed with how hard you worked on thi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303360" y="66600"/>
            <a:ext cx="24764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vice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eat the label “genius” as a curse rather than a compl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ject and fight this c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fight it through education (such as this present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our can hel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ed to b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genius, but I’m retired now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an’t b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genius: I work only part-tim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say I’m a genius? Thank you, and yes, I do work hard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h jokes are likely to receive a puzzled respon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gives you an opportunity to educate people that “genius” refers to “hard work” rather than an innate 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erm “genius” is widely misundersto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trinsicall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ior ability you are born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ead, you reach a state of genius (superior ability) through lots of practice and hard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isunderstanding can cause problems. People w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miss your claims of having worked hard because “you are a geniu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unrealistic expectations of you that you cannot live up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gnore your work because “only another genius could understand i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eve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pt the label “genius” as a compl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s effects are like a curse that can hinder your career or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What is geniu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4800" y="66600"/>
            <a:ext cx="71802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common misunderstanding of “genius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erm “genius” can be used to mean a superior a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is a genius”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“he has a very high intelligenc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chael Jordan was a genius on the basketball cour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nothing wrong with the above m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“genius” is often used to mean a superior ability that come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aturall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a per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other words, either you are born a genius or you are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are not born Superman, you will never be bullet proof, be able to fly or have X-ray vision, regardless of how much you pract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kewise, if you are not born with the relevant abilities t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will never be as intelligent as Albert Eins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will never play basketball as well as Michael Jor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ommonly held understanding of “genius” is w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56120" y="66600"/>
            <a:ext cx="2769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omas Ed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omas Edison was a famous American inven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inventions include the light bulb and the phono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is widely regarded as a gen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mous quote from Thomas Edi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ius is 1% inspiration and 99% perspir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ortant points to note about this qu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doe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ntion anything about being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orn with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ior 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1% and 99% figures are inaccurate plac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likely to be 1 unit of inspiration and 10,000+ units of hard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n’t assume he was being modest. Perhaps he was making an insul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0">
              <a:spcBef>
                <a:spcPts val="499"/>
              </a:spcBef>
              <a:buNone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m called a ‘genius’ because I work hard. You are no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lled that because you are laz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73360" y="66600"/>
            <a:ext cx="3741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“genius” of sta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Thomas Edison’s quote accur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it valid only for him? Or does it hold for many other geniuses to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erm “genius” is often applied to the best people in a field, such as sports, music, art, movies, busines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re such people born already being “the best”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 did they have to work very hard to become the be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nswer (at least for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os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iuses) is: they worked 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an verify this by reading biographies of “the best”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ook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indse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Carol S. Dweck comes to the same 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n young prodigies usually work very 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85480" y="66600"/>
            <a:ext cx="49294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“genius” of stars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of a sports geni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chael Jordan is regarded as the best basketball player 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ever, several basketball teams rejected him because he was not (yet) good 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skill was “mediocre” initially. Hard work made it “good”, “better”, “great” and eventually “geniu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had to continue working hard t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mai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t the “genius”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 it seems Thomas Edison was r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ius = a small bit of inspiration plu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o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hard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tips on finding inspiration, se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Status Quo is Flawe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pter of sl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ward de Bono’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ix Thinking Hat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ateral Think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hy Not?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Barry Nalebuff and Ian Ay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Why the “genius” label can be a c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08440" y="66600"/>
            <a:ext cx="3324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 are a genius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are a genius” is normally intended as a compl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somebody calls you a genius they probably assu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were born with a superior talent or I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don’t have to work hard to achieve excellent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assumptions of you are likely to be incorr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wer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rn sup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i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e to work h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incorrect assumptions can cause you problem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2:43:17Z</dcterms:modified>
  <cp:revision>1280</cp:revision>
  <dc:subject/>
  <dc:title>Curse of the “Genius” Label</dc:title>
</cp:coreProperties>
</file>