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9A72344-133D-478F-A986-3D0240F4C0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A89D0D5-90B6-4DE1-B4B3-0FF94655ED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66600"/>
            <a:ext cx="64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umptions about your motiv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criticize you, not for what you hav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for what the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r 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the lead singer of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many hits, but by 1984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finished recording a new album and wanted to promo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was moved by a news report about famine in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he spent many months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t The Boomtown Rats could not promote their new album effectively, and its chances of success slipped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assumed Bob Geldof organized Band Aid and Live Aid as a gimmick to promote his music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080" y="66600"/>
            <a:ext cx="558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use first, ask questions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make accusations based 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’t be bothered to ask questions to discover the fact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 Bailey is a famous photogra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leased a charity book entit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agine: A Book for Band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of this book raised £200,000 for Band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launch of the book, a journa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d he had travelled to Ethiopia first class at Band Aid’s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ked him for wasting money that could have been used for ch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David Bail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d travelled in the hold of a cargo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d all his own travel and living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ve his time and talent free of charge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604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ton’s third law of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reac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tion applies to people who tr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critic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riticisms may be justified, but much will be unjus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ly that the greater the change, the greater th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magic shield to defend you from such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s always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understanding that “criticism happens” helps to deflect some of the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significan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 unjus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reasons for unjust criticisms have been discussed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izes the reasons for unjust criticisms given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s some forms used for unjust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ful to be forewarned that you will face unjust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ing that other people have faced similar, unjust criticisms takes some of the sting out of the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iew the existence of unjust criticisms as a sign that you are mak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cap of reasons for unjust critic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66600"/>
            <a:ext cx="573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quote was used in the chap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quote is relev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viewed as being unreasonable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people who bring about progress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criticisms you will f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idea is stu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 you think you know better than the experts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are arro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0160" y="66600"/>
            <a:ext cx="564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s serving an established, mainstream market sometimes rejec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jected innovation might succeed in a smaller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the niche market enables the innovation to 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tured innovation might then succeed in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itial rejection often comes with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believe in your innovation then do not take the criticisms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a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form an opinion based on first im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ten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data that confirm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data that contradict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can result in two types of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innovation because it contradicts people’s opinions of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personality and integrity. This occur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dislike a person for one reason but like them for another reason. We tend to like (or dislike) a person in their entir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being “unreasonable” will make some people dislike you for one reason, and therefore assume you are uniformly dislik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just criticisms may take differ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82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ticisms may come in the form of accu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va Coll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 teacher in a scho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innovative teaching style worked very well with 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able to convince other school staff of the benefits of her innov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onverted half of her house into a small school and taugh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encountered a criticism: “You are experimenting on the studen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was true: s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to improve her teaching techniques. And the experiment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had some hidden assumptions that we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6:31Z</dcterms:modified>
  <cp:revision>1132</cp:revision>
  <dc:subject/>
  <dc:title>Criticism and Rejection</dc:title>
</cp:coreProperties>
</file>