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sc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8CAE4E18-6577-4EB6-BFB3-6969DF22229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645B7E9A-A725-4D08-BB71-C6F34FCB707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imesca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Ob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311560" y="66600"/>
            <a:ext cx="4473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dication or obsess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inging about change requi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enormous amount of time (as already discus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vercoming obstacles that are difficult and sometime seem im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es persevering at such a  task indicate dedication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 does it indicate obses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no universal answer to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subjective: one person’s dedication is another person’s ob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overb “All things in moderation” is not helpfu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ration prevents unhealthy ob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moderation also prevents healthy ded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22240" y="66600"/>
            <a:ext cx="5661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dication or obsession?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dedication/obsession might badly impact on your lif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you develop health problems due to overwork or s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your relationship with your partner deterio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your career is put at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such cases, you need to decide if persevering is worth the trouble it 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autobiographies mention the harmful effects of dedication on their l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lson Mandela repeatedly struggled with weighing his duty as a activist and his duties to his 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izabeth Kenny had to choose between accepting a marriage proposal or working as a nurse; she chose the l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b Geldof suffered from months of sleep deprivation and stress when organizing Band Aid and Live 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Unconventional re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4680" y="66600"/>
            <a:ext cx="62150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nconventional rewards of activ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vism can cost you a lot of time and mone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is way, activism can impoverish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, activism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nrich your life in other w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an develop a network of close friends who share your belie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activists in other regions may offer you free accommodation and food when you travel on holi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inging about positive change can provide deep meaning to your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evant qu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could have had a normal life. I could have had a normal legal career. I’d be a partner in some big firm by now. I’d be making tons of money. I make less now than the secretary at my old law fi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9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ey is a poor substitute for having an interesting life.”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— Elizabeth May, author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 to Save the World in Your Spare Ti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66600"/>
            <a:ext cx="7402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conventional rewards of activism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anecdote is fro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w to Save the World in Your Spare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Elizabeth M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activists opposed the environmentally-destructive plans of a large busin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usiness sued the activists, trying to bankrupt them into si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ctivists were depressed and stressed about this legal da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day an activist’s car was being repaired at a gar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chanic saw a news story about the laws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said “I really envy you. I go to work every day. I fix cars. I never know if my life really means anything. You know. Your life really makes a differenc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: the activist “went from feeling sorry for herself, to feeling luck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67020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nging about significant chan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take much longer than you assume. Possibly your entire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ust have patience and persever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you can develop these skills in “delayed gratification” activi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you can deci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your commitment healthy dedication or unhealthy obsess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your commitment worth the sacrifices you have to mak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eciate the unconventional benefits that activism b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Times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82160" y="66600"/>
            <a:ext cx="6946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: change occurs very slow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would be great if you could bring about change in a week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fortunately, meaningful change usually occurs much more slow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bring about change, you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us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e patience and perseve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understand why, consider the scenario on the next slid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2360" y="66600"/>
            <a:ext cx="6886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ne change is just the tip of the iceber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ypical scenar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see a problem that should be fix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estimate that doing so will take a few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r estimate is far too short. The work takes many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this time, you realize that the problem you addressed was really just a symptom of a larger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estimate it will take several more months to fix this larger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r estimate is far too short. The work takes several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you realize this second problem was just a symptom of an even larger problem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t scenar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ows why patience and perseverance are so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s occurred for many people throughout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82720" y="66600"/>
            <a:ext cx="3719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Bob Geldo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 fontScale="99000"/>
          </a:bodyPr>
          <a:p>
            <a:pPr marL="267120" indent="-26712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b Geldof wanted to raise some money to combat famine in Ethiop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organized the Band Aid charity record; it raised millions of p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xt problem: by default, much of the money raised would be wasted on bureaucracy and expensive means of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lution: he finds ways to significantly cut these overh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xt problem: the money raised was not enough to combat fam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lution: he organized Live Aid, which raised $200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xt problem: the amount of aid money is tiny compared to interest payments on the crippling amount of debt that many poor countries 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lution: he organized Live 8 to pressure large nations to forgive the deb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espan for the above events: more than 2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44960" y="66600"/>
            <a:ext cx="2792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izabeth Kenny developed a successful treatment for pol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took her 30 years to convince the medical establishment of the validity of her theories and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ndhi peacefully ended British rule of Ind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took him 30 years to achieve this 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mes Dyson introduced the bagless vacuum clean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took him 15 years to bring his invention to market in Eng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tin Luther King Jr. made significant progress for black rights within the U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worked at this for 12 years, until he was assassi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6640" y="66600"/>
            <a:ext cx="7445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creasing your patience and persever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are impatient and give up easily in small things then you are unlikely to have patience and perseverance for big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increase your patience and perseverance b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tting down on “instant gratification” activiti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 television and movies, eating ready-cooked meals, writing blog e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ing in some “delayed gratification” activiti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 gardening, art, do-it-yourself home improvements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gular exercise, writing long articles or 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66600"/>
            <a:ext cx="8331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ringing about change can be a life-long activ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ible has a story about patience and persever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es spent 40 years bringing his people to the promised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fortunately, he died before they arr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old, you might reflect on your life and think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There is still so much more to d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it is not all gloom and do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erience occasional milestones of achie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us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ognise and celebrate those to motivate yourself to contin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old 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o no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ink: “There is so much more to do; therefore I faile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nk: “There is so much more to do, but I achieved a lot, and other people can continue the work after m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6-30T12:55:43Z</dcterms:modified>
  <cp:revision>1159</cp:revision>
  <dc:subject/>
  <dc:title>Timescales</dc:title>
</cp:coreProperties>
</file>