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ll Curve of In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4929228-7478-42AF-A74B-616E79AA9D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CEB1589-2378-48EB-905E-AE953A19807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ell Curve of Intoler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14640" y="66600"/>
            <a:ext cx="4868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the bell cur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l curve distributions occur widely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ight, weight, chest-size of populations, survival times for disea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uses in mathematics, physics, social scienc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levels of intolerance follow a bell curve dis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could this provide any insights into intoler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slide shows a bell curve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” denotes an oppressed grou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 different religion or race, homosexuality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ll curve shows the distribution of non-X intolerance for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05160" y="66600"/>
            <a:ext cx="42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ll curve of intol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are on the following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0640" y="2819520"/>
            <a:ext cx="8129520" cy="343512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62485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83000" y="241128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52388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52712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44560" y="35053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1911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251784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375444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0120" y="459252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72428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044960"/>
            <a:ext cx="2286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66688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057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62720" y="228600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172200" y="3276720"/>
            <a:ext cx="8380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934320" y="426708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772040" y="51055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97120" y="66600"/>
            <a:ext cx="1941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trem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treme right of the curve denotes increasing 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“extremists” probably believe they are doing a good t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just moan about the X problem. I’m going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someth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doing what the public wants (but are too scared to do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’s a dirty job but somebody’s got to do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treme left of the curve denotes increasing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necessarily romantic love, but friendship and c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love really such an extre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, because love is the opposite of 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, according to people at the middle or on the right of the curv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ical examples from U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 person with black friends might be called “nigger lov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 person campaigning for black rights might be socially shunned, harassed or ev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9600" y="66600"/>
            <a:ext cx="6176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utral people and the lack of sc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al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“I don’t dislike X people but I don’t don’t know any eith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centre of the bell curve because the “average” person has anti-X fee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least in a society that oppresses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 curve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n to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ale shown slide impl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8% of non-X population commit anti-X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2% of non-X population commit anti-X mu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ity, levels of anti-X violence and murder are (hopefully) much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 for the deliberate lack of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difficult to see “extremists” if they are shown at, say, 0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s of anti-X intolerance might change over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xample: there is less racism in USA today than 100 years a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  <a:cubicBezTo>
                  <a:pt x="5121" y="2164"/>
                  <a:pt x="0" y="2159"/>
                  <a:pt x="0" y="2159"/>
                </a:cubicBezTo>
                <a:close/>
              </a:path>
            </a:pathLst>
          </a:custGeom>
          <a:solidFill>
            <a:srgbClr val="91919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193920"/>
            <a:ext cx="22860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3193920"/>
            <a:ext cx="281916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5240" y="66600"/>
            <a:ext cx="3900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apathetic maj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near the centre of the bell cur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think, or talk to friends and family, about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are not concern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 to tak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83000" y="255744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167004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167328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44560" y="36511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3369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26640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390060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73868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1080" y="66600"/>
            <a:ext cx="4594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e bell curve accurat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 curves are often used to do mathematical predi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uch uses, it is important to verify that the data fit a bell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statistical data on levels of intolerance to know that a bell curve model is appropri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law means we should not try to use the bell curve for mathematical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bell curve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b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provides a more elaborate way to reason about, say, racism than the simplistic view of “You are racist or you are not racis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few chapters discuss some insights that we can get from the bell curve model of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95240" y="66600"/>
            <a:ext cx="571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the bell curv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mary of the bell curv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love towards the left 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hate towards the right 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al is to the left of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e model is for a group that faces widespread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ge apathetic major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stay silent or make comments to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don’t care enough to do an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drawn to sc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difficult to see “extremists” if they are shown at, say, 0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s of anti-X intolerance might chang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few chapters discuss some insights we can get from the bell curv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97160" y="66600"/>
            <a:ext cx="2772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, members of an oppressed group use generalizations when identifying their oppr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lack man might identify “white people” as his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not all white people are ra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not all white people wh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st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qu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izations can be a useful verbal shorthand for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we have to see beyond generalizations to do a deep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wi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not be able to develop good strategies to combat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may accidentally offend people who don’t oppress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7480" y="66600"/>
            <a:ext cx="5423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ting beyond general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describes a bell curve model for intol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us to get beyond generalizations commonly used in acti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is chapter does not provide any ins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j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scrib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ll curve model without saying why it is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chapters discuss insights provided by this bell curv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The bell curv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4280" y="66600"/>
            <a:ext cx="4887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asuring random var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 the height of, say, 1000 adult men picked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 the results as a bar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ult probably looks like the bar chart on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95440" y="66600"/>
            <a:ext cx="607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asuring random vari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ser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are close to averag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maller number of people are very tall or very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2286000"/>
            <a:ext cx="8763120" cy="3581280"/>
            <a:chOff x="228600" y="2286000"/>
            <a:chExt cx="8763120" cy="3581280"/>
          </a:xfrm>
        </p:grpSpPr>
        <p:sp>
          <p:nvSpPr>
            <p:cNvPr id="100" name=""/>
            <p:cNvSpPr/>
            <p:nvPr/>
          </p:nvSpPr>
          <p:spPr>
            <a:xfrm>
              <a:off x="533520" y="5867280"/>
              <a:ext cx="84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0" y="2438280"/>
              <a:ext cx="53352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05520" y="2590920"/>
              <a:ext cx="53316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38480" y="2590920"/>
              <a:ext cx="53352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3124080"/>
              <a:ext cx="53316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38680" y="3124080"/>
              <a:ext cx="5335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718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8280" y="4724280"/>
              <a:ext cx="533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4724280"/>
              <a:ext cx="53316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8880" y="5257800"/>
              <a:ext cx="5335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5257800"/>
              <a:ext cx="5331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724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33520" y="228600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-1011240" y="3829320"/>
              <a:ext cx="2820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429000" y="5908680"/>
            <a:ext cx="2819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68600" y="66600"/>
            <a:ext cx="2138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bell cur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r chart actually looks like a 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nce the name “bell cur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known as “normal distribution” or “Gaussian distribu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8600" y="2286000"/>
            <a:ext cx="8763120" cy="3963240"/>
            <a:chOff x="228600" y="2286000"/>
            <a:chExt cx="8763120" cy="3963240"/>
          </a:xfrm>
        </p:grpSpPr>
        <p:sp>
          <p:nvSpPr>
            <p:cNvPr id="120" name=""/>
            <p:cNvSpPr/>
            <p:nvPr/>
          </p:nvSpPr>
          <p:spPr>
            <a:xfrm>
              <a:off x="849240" y="2438280"/>
              <a:ext cx="8129520" cy="3435480"/>
            </a:xfrm>
            <a:custGeom>
              <a:avLst/>
              <a:gdLst/>
              <a:ahLst/>
              <a:rect l="l" t="t" r="r" b="b"/>
              <a:pathLst>
                <a:path w="5121" h="2164">
                  <a:moveTo>
                    <a:pt x="0" y="2159"/>
                  </a:moveTo>
                  <a:cubicBezTo>
                    <a:pt x="43" y="2155"/>
                    <a:pt x="177" y="2151"/>
                    <a:pt x="259" y="2133"/>
                  </a:cubicBezTo>
                  <a:cubicBezTo>
                    <a:pt x="341" y="2115"/>
                    <a:pt x="400" y="2093"/>
                    <a:pt x="492" y="2048"/>
                  </a:cubicBezTo>
                  <a:cubicBezTo>
                    <a:pt x="584" y="2003"/>
                    <a:pt x="714" y="1940"/>
                    <a:pt x="809" y="1863"/>
                  </a:cubicBezTo>
                  <a:cubicBezTo>
                    <a:pt x="904" y="1786"/>
                    <a:pt x="967" y="1711"/>
                    <a:pt x="1063" y="1583"/>
                  </a:cubicBezTo>
                  <a:cubicBezTo>
                    <a:pt x="1159" y="1455"/>
                    <a:pt x="1287" y="1249"/>
                    <a:pt x="1385" y="1095"/>
                  </a:cubicBezTo>
                  <a:cubicBezTo>
                    <a:pt x="1483" y="941"/>
                    <a:pt x="1569" y="778"/>
                    <a:pt x="1649" y="658"/>
                  </a:cubicBezTo>
                  <a:cubicBezTo>
                    <a:pt x="1729" y="538"/>
                    <a:pt x="1789" y="460"/>
                    <a:pt x="1865" y="375"/>
                  </a:cubicBezTo>
                  <a:cubicBezTo>
                    <a:pt x="1941" y="290"/>
                    <a:pt x="2032" y="201"/>
                    <a:pt x="2104" y="146"/>
                  </a:cubicBezTo>
                  <a:cubicBezTo>
                    <a:pt x="2176" y="91"/>
                    <a:pt x="2228" y="68"/>
                    <a:pt x="2299" y="45"/>
                  </a:cubicBezTo>
                  <a:cubicBezTo>
                    <a:pt x="2370" y="22"/>
                    <a:pt x="2436" y="0"/>
                    <a:pt x="2532" y="8"/>
                  </a:cubicBezTo>
                  <a:cubicBezTo>
                    <a:pt x="2628" y="16"/>
                    <a:pt x="2764" y="34"/>
                    <a:pt x="2875" y="93"/>
                  </a:cubicBezTo>
                  <a:cubicBezTo>
                    <a:pt x="2986" y="152"/>
                    <a:pt x="3110" y="267"/>
                    <a:pt x="3198" y="362"/>
                  </a:cubicBezTo>
                  <a:cubicBezTo>
                    <a:pt x="3286" y="457"/>
                    <a:pt x="3327" y="549"/>
                    <a:pt x="3401" y="663"/>
                  </a:cubicBezTo>
                  <a:cubicBezTo>
                    <a:pt x="3475" y="777"/>
                    <a:pt x="3554" y="912"/>
                    <a:pt x="3641" y="1047"/>
                  </a:cubicBezTo>
                  <a:cubicBezTo>
                    <a:pt x="3728" y="1182"/>
                    <a:pt x="3847" y="1364"/>
                    <a:pt x="3922" y="1472"/>
                  </a:cubicBezTo>
                  <a:cubicBezTo>
                    <a:pt x="3997" y="1580"/>
                    <a:pt x="4018" y="1613"/>
                    <a:pt x="4091" y="1694"/>
                  </a:cubicBezTo>
                  <a:cubicBezTo>
                    <a:pt x="4164" y="1775"/>
                    <a:pt x="4268" y="1891"/>
                    <a:pt x="4361" y="1959"/>
                  </a:cubicBezTo>
                  <a:cubicBezTo>
                    <a:pt x="4454" y="2027"/>
                    <a:pt x="4567" y="2073"/>
                    <a:pt x="4649" y="2103"/>
                  </a:cubicBezTo>
                  <a:cubicBezTo>
                    <a:pt x="4731" y="2133"/>
                    <a:pt x="4773" y="2128"/>
                    <a:pt x="4852" y="2138"/>
                  </a:cubicBezTo>
                  <a:cubicBezTo>
                    <a:pt x="4931" y="2148"/>
                    <a:pt x="5065" y="2159"/>
                    <a:pt x="5121" y="216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5867280"/>
              <a:ext cx="84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2438280"/>
              <a:ext cx="53352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5520" y="2590920"/>
              <a:ext cx="53316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38480" y="2590920"/>
              <a:ext cx="53352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05320" y="3124080"/>
              <a:ext cx="53316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38680" y="3124080"/>
              <a:ext cx="5335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22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8280" y="4724280"/>
              <a:ext cx="533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5720" y="4724280"/>
              <a:ext cx="53316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38880" y="5257800"/>
              <a:ext cx="5335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5120" y="5257800"/>
              <a:ext cx="5331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724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33520" y="228600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-1010520" y="3829680"/>
              <a:ext cx="2819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5908680"/>
              <a:ext cx="28195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1:25:37Z</dcterms:modified>
  <cp:revision>1289</cp:revision>
  <dc:subject/>
  <dc:title>The Bell Curve of Intolerance</dc:title>
</cp:coreProperties>
</file>