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D560DE7-24CE-4110-884C-2BEA329A42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F81DF2C-63E0-447D-847D-B42D4631DA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040" y="66600"/>
            <a:ext cx="42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any documented examples of Satyagraha-based campaign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of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slides provide two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example is from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example is from Martin Luther King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6 (“Selma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016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is example shows that Satyagraha can work even if your opponent uses bureaucracy instead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66600"/>
            <a:ext cx="732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said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is usually explained in religious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like “love is more powerful than h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“penance and suffering are good for the sou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model offers a better explanation for the succes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on-religious explanation is easi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only scratched the surface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many subtleties you need to understand before you can use it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“Satyagraha” chapter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Satyagra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552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 and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ndas Karamchand Gandhi (186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194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ignificant people of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cording to Time magaz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uccessful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famous activists were inspired by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Martin Luther King and 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used peaceful tactics to fight violent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like the term “passive res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ined the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gra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eaning truth-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772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tline of Satyagraha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line of Satyagraha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stead, leave the door open to friend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ressors typically respond to this strategy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Satyagraha (eventually)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many successes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used it to end Engl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explanation for Satyagraha’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560" y="66600"/>
            <a:ext cx="797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’s explanation of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escribed Satyagraha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ndication of truth not by infliction of suffering on the opponent but on one’s self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1 (“Gandhi Goes to Jail”) of Part One in “The Life of Mahatma Gandhi” 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longer descriptions of Satyagraha but they all are based on religious idea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can conquer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uffering, penance and self-restraint are good for the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orked, but it does not seem 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of intolerance offers another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easier to understand, regardless of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understand Satyagraha then you can use it in your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nsight provided by the bell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440" y="66600"/>
            <a:ext cx="8988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ell curve explanation for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do a peaceful prot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igned to prov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extremists react, usually with violence and mass ar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d themselves or 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political peer pressure on the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arison of explan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Shepard (author of “Mahatma Gandhi and His Myths”) believes Gandhi did not realize the importance of ma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0Z</dcterms:modified>
  <cp:revision>1305</cp:revision>
  <dc:subject/>
  <dc:title>Bell Curve Insight into Satyagraha</dc:title>
</cp:coreProperties>
</file>