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ABA8DFC-72D1-459B-A562-2608147791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91962B3-5099-4D83-B2CA-D0B0A81242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440" y="66600"/>
            <a:ext cx="629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 Martin Luther King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1 (“Death of Illusion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Kennedy was assassinated, King pointed out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violence and mur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onfined to ju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anti-X intolerance infects other aspects of socie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hate […] grows and spreads as a diseas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tmosphere in which people think it is acceptable to kill somebody they disagre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in such an atmosphere that JFK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nother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does not affect non-X peopl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creates a general atmosphere of violence that is bad for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481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examples that back up King’s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nching in USA was used mainly against black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some white people were lynch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zi concentration camps are associated with killing J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ther groups were killed in concentration camps too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ally retarded people, alcoholics,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sexuals, prostitutes, habitual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Catholic Polish people, Jehovah’s Wit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y and Sinti people (more commonly known as gyps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emocrats, freemasons, anarch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ts (including Soviet prisoners of 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66600"/>
            <a:ext cx="822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X prejudice limits choices for non-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gay prejudice can hurt straight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raight people suffer anti-gay prejudice because they dress, speak or behave the “wrong way” or have an “inappropriate”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at danger, many straight people engage in self-cens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suffering anti-X prejudice, many non-X people avoid having X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“There is a simple and effective w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top this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2080" y="66600"/>
            <a:ext cx="845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imple and effective way to stop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John is non-X and is an anti-X extr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mmits acts of anti-X violence or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lso makes anti-X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John hears “Your anti-X statements are unaccep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n 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unlikely to change his behaviour or 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 non-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much more likely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John had previously assumed he was “doing what the public want but are too scared to 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e need to empower the 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you hear an anti-X statement, just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Stop. Those comments are unacceptab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1280" y="66600"/>
            <a:ext cx="773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joint “Don’t tolerate intolerance”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ctivists fight against intolerance for one specific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homophobia does not reduce anti-black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anti-black racism does not reduce Islamopho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Islamophobia does not reduce anti-Semi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for activists to poo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a joint “Don’t tolerate intolerance”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X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age to say “That’s unacceptable” to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necessary for the triumph of evil is for good men to do nothing say nothing when they hear an anti-X com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stop the domino effect before it can lead to violence and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160" y="4708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4200" y="66600"/>
            <a:ext cx="5797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me anti-X media person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V presenters and journalists repeatedly make anti-X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mulative effects of these could be made visual in a TV adverti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or is dressed as a famous TV or radio personality who regularly makes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or uses a bullhorn to repeatedly state anti-X comments made by the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crowded street, in a shopping mall, in a school, in a sports stadium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g line: “The anti-X comments made by &lt;personality’s name&gt; on &lt;name and date of program or newspaper&gt; reached 2,534,000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stop the domino effect by communicating 3 messages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stop this problem. Just say `Stop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comments are unacceptable.’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ear anti-X com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1828800"/>
            <a:ext cx="3567240" cy="4495680"/>
            <a:chOff x="5334120" y="1828800"/>
            <a:chExt cx="3567240" cy="4495680"/>
          </a:xfrm>
        </p:grpSpPr>
        <p:sp>
          <p:nvSpPr>
            <p:cNvPr id="121" name=""/>
            <p:cNvSpPr/>
            <p:nvPr/>
          </p:nvSpPr>
          <p:spPr>
            <a:xfrm>
              <a:off x="7315200" y="1828800"/>
              <a:ext cx="1523880" cy="29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57800">
              <a:off x="7343280" y="2079360"/>
              <a:ext cx="1525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43200"/>
              <a:ext cx="152388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68000">
              <a:off x="6705360" y="299340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3809880"/>
              <a:ext cx="1523880" cy="22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34000">
              <a:off x="6095520" y="406044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4876560"/>
              <a:ext cx="15238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09000">
              <a:off x="5410080" y="512712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problem of the domi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poses a way to combat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28400" y="66600"/>
            <a:ext cx="465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importan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to communicate 3 messages to the publ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 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 can stop this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“Anti-X intolerance is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gg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than you real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559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why non-X people under-estimate anti-X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do not have close X friend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might be a minority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X people might live in “X neighbourhoods” or socialize in “X pub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-X intoler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tly expressed at X people (verbal abuse or vio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less frequently witnessed by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X person is likel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intolerance 100+ times more often than a non-X pers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nes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non-X people witness less than 1% of anti-X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most non-X people think anti-X intolerance is not a bi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3160" y="66600"/>
            <a:ext cx="706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unicating statistics on hate cr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: in 2008 in London, England, there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0 racist and religious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idents is estimated to be 5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 homophobic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ts is estimated to be 10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ting can be used to express hate crime statistics in ways that people find meaningful and mem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 down statistics per year? Month? Week? Day? Hour? Minu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statistics for other types of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other activ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long does it take you to wash your hands (of a problem)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breakfast time, lunchtime and dinner time, a gay hate crime is committed in London. Can you stomach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“Anti-X intolerance is bad for non-X people t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0840" y="66600"/>
            <a:ext cx="293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venge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reason why anti-X intolerance is bad for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ppressed X people will hit back a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nother, not so obvious, reason why anti-X intolerance is bad for non-X peo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37Z</dcterms:modified>
  <cp:revision>1323</cp:revision>
  <dc:subject/>
  <dc:title>Fighting the Domino Effect</dc:title>
</cp:coreProperties>
</file>