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08813" cy="9348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536256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ll-curve Model’s Insight into Crowd Psych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14ADA953-468B-43F0-BAFE-DBEB6957039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176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9AF2BCE1-BD26-4B5A-935F-F2BFF739462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38040"/>
            <a:ext cx="8858160" cy="98100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Bell-curve Model’s Insight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nto Crowd Psycholog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pic>
        <p:nvPicPr>
          <p:cNvPr id="84" name="4000E30Nf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© 2009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globe logo is from www.mapAbility.com. Used with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81080" y="66600"/>
            <a:ext cx="33051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rowd psycholog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crowd acts differently to the individuals in the cro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 angry mob might kill a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most individuals in the mob do not intend for that to hap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rhaps they just want to shout their disapproval of somet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owd psychology is typically viewed as being mysterio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are several competing psychological the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ne seem entirely convincing or understandable to a lay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ample: Convergence theo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tes: people who wish to act in a certain way come together to form crow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most individuals in a mob do not intend to do ha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82640" y="66600"/>
            <a:ext cx="74995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planation offered by the bell curve mod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ticipants in a crowd are a skewed representation of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20640" y="2965320"/>
            <a:ext cx="8129520" cy="3435480"/>
          </a:xfrm>
          <a:custGeom>
            <a:avLst/>
            <a:gdLst/>
            <a:ahLst/>
            <a:rect l="l" t="t" r="r" b="b"/>
            <a:pathLst>
              <a:path w="5121" h="2164">
                <a:moveTo>
                  <a:pt x="0" y="2159"/>
                </a:moveTo>
                <a:cubicBezTo>
                  <a:pt x="43" y="2155"/>
                  <a:pt x="177" y="2151"/>
                  <a:pt x="259" y="2133"/>
                </a:cubicBezTo>
                <a:cubicBezTo>
                  <a:pt x="341" y="2115"/>
                  <a:pt x="400" y="2093"/>
                  <a:pt x="492" y="2048"/>
                </a:cubicBezTo>
                <a:cubicBezTo>
                  <a:pt x="584" y="2003"/>
                  <a:pt x="714" y="1940"/>
                  <a:pt x="809" y="1863"/>
                </a:cubicBezTo>
                <a:cubicBezTo>
                  <a:pt x="904" y="1786"/>
                  <a:pt x="967" y="1711"/>
                  <a:pt x="1063" y="1583"/>
                </a:cubicBezTo>
                <a:cubicBezTo>
                  <a:pt x="1159" y="1455"/>
                  <a:pt x="1287" y="1249"/>
                  <a:pt x="1385" y="1095"/>
                </a:cubicBezTo>
                <a:cubicBezTo>
                  <a:pt x="1483" y="941"/>
                  <a:pt x="1569" y="778"/>
                  <a:pt x="1649" y="658"/>
                </a:cubicBezTo>
                <a:cubicBezTo>
                  <a:pt x="1729" y="538"/>
                  <a:pt x="1789" y="460"/>
                  <a:pt x="1865" y="375"/>
                </a:cubicBezTo>
                <a:cubicBezTo>
                  <a:pt x="1941" y="290"/>
                  <a:pt x="2032" y="201"/>
                  <a:pt x="2104" y="146"/>
                </a:cubicBezTo>
                <a:cubicBezTo>
                  <a:pt x="2176" y="91"/>
                  <a:pt x="2228" y="68"/>
                  <a:pt x="2299" y="45"/>
                </a:cubicBezTo>
                <a:cubicBezTo>
                  <a:pt x="2370" y="22"/>
                  <a:pt x="2436" y="0"/>
                  <a:pt x="2532" y="8"/>
                </a:cubicBezTo>
                <a:cubicBezTo>
                  <a:pt x="2628" y="16"/>
                  <a:pt x="2764" y="34"/>
                  <a:pt x="2875" y="93"/>
                </a:cubicBezTo>
                <a:cubicBezTo>
                  <a:pt x="2986" y="152"/>
                  <a:pt x="3110" y="267"/>
                  <a:pt x="3198" y="362"/>
                </a:cubicBezTo>
                <a:cubicBezTo>
                  <a:pt x="3286" y="457"/>
                  <a:pt x="3327" y="549"/>
                  <a:pt x="3401" y="663"/>
                </a:cubicBezTo>
                <a:cubicBezTo>
                  <a:pt x="3475" y="777"/>
                  <a:pt x="3554" y="912"/>
                  <a:pt x="3641" y="1047"/>
                </a:cubicBezTo>
                <a:cubicBezTo>
                  <a:pt x="3728" y="1182"/>
                  <a:pt x="3847" y="1364"/>
                  <a:pt x="3922" y="1472"/>
                </a:cubicBezTo>
                <a:cubicBezTo>
                  <a:pt x="3997" y="1580"/>
                  <a:pt x="4018" y="1613"/>
                  <a:pt x="4091" y="1694"/>
                </a:cubicBezTo>
                <a:cubicBezTo>
                  <a:pt x="4164" y="1775"/>
                  <a:pt x="4268" y="1891"/>
                  <a:pt x="4361" y="1959"/>
                </a:cubicBezTo>
                <a:cubicBezTo>
                  <a:pt x="4454" y="2027"/>
                  <a:pt x="4567" y="2073"/>
                  <a:pt x="4649" y="2103"/>
                </a:cubicBezTo>
                <a:cubicBezTo>
                  <a:pt x="4731" y="2133"/>
                  <a:pt x="4773" y="2128"/>
                  <a:pt x="4852" y="2138"/>
                </a:cubicBezTo>
                <a:cubicBezTo>
                  <a:pt x="4931" y="2148"/>
                  <a:pt x="5065" y="2159"/>
                  <a:pt x="5121" y="2164"/>
                </a:cubicBezTo>
                <a:cubicBezTo>
                  <a:pt x="5121" y="2164"/>
                  <a:pt x="0" y="2159"/>
                  <a:pt x="0" y="2159"/>
                </a:cubicBezTo>
                <a:close/>
              </a:path>
            </a:pathLst>
          </a:custGeom>
          <a:solidFill>
            <a:srgbClr val="919191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2895480"/>
            <a:ext cx="4647960" cy="349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20640" y="2965320"/>
            <a:ext cx="8129520" cy="3435480"/>
          </a:xfrm>
          <a:custGeom>
            <a:avLst/>
            <a:gdLst/>
            <a:ahLst/>
            <a:rect l="l" t="t" r="r" b="b"/>
            <a:pathLst>
              <a:path w="5121" h="2164">
                <a:moveTo>
                  <a:pt x="0" y="2159"/>
                </a:moveTo>
                <a:cubicBezTo>
                  <a:pt x="43" y="2155"/>
                  <a:pt x="177" y="2151"/>
                  <a:pt x="259" y="2133"/>
                </a:cubicBezTo>
                <a:cubicBezTo>
                  <a:pt x="341" y="2115"/>
                  <a:pt x="400" y="2093"/>
                  <a:pt x="492" y="2048"/>
                </a:cubicBezTo>
                <a:cubicBezTo>
                  <a:pt x="584" y="2003"/>
                  <a:pt x="714" y="1940"/>
                  <a:pt x="809" y="1863"/>
                </a:cubicBezTo>
                <a:cubicBezTo>
                  <a:pt x="904" y="1786"/>
                  <a:pt x="967" y="1711"/>
                  <a:pt x="1063" y="1583"/>
                </a:cubicBezTo>
                <a:cubicBezTo>
                  <a:pt x="1159" y="1455"/>
                  <a:pt x="1287" y="1249"/>
                  <a:pt x="1385" y="1095"/>
                </a:cubicBezTo>
                <a:cubicBezTo>
                  <a:pt x="1483" y="941"/>
                  <a:pt x="1569" y="778"/>
                  <a:pt x="1649" y="658"/>
                </a:cubicBezTo>
                <a:cubicBezTo>
                  <a:pt x="1729" y="538"/>
                  <a:pt x="1789" y="460"/>
                  <a:pt x="1865" y="375"/>
                </a:cubicBezTo>
                <a:cubicBezTo>
                  <a:pt x="1941" y="290"/>
                  <a:pt x="2032" y="201"/>
                  <a:pt x="2104" y="146"/>
                </a:cubicBezTo>
                <a:cubicBezTo>
                  <a:pt x="2176" y="91"/>
                  <a:pt x="2228" y="68"/>
                  <a:pt x="2299" y="45"/>
                </a:cubicBezTo>
                <a:cubicBezTo>
                  <a:pt x="2370" y="22"/>
                  <a:pt x="2436" y="0"/>
                  <a:pt x="2532" y="8"/>
                </a:cubicBezTo>
                <a:cubicBezTo>
                  <a:pt x="2628" y="16"/>
                  <a:pt x="2764" y="34"/>
                  <a:pt x="2875" y="93"/>
                </a:cubicBezTo>
                <a:cubicBezTo>
                  <a:pt x="2986" y="152"/>
                  <a:pt x="3110" y="267"/>
                  <a:pt x="3198" y="362"/>
                </a:cubicBezTo>
                <a:cubicBezTo>
                  <a:pt x="3286" y="457"/>
                  <a:pt x="3327" y="549"/>
                  <a:pt x="3401" y="663"/>
                </a:cubicBezTo>
                <a:cubicBezTo>
                  <a:pt x="3475" y="777"/>
                  <a:pt x="3554" y="912"/>
                  <a:pt x="3641" y="1047"/>
                </a:cubicBezTo>
                <a:cubicBezTo>
                  <a:pt x="3728" y="1182"/>
                  <a:pt x="3847" y="1364"/>
                  <a:pt x="3922" y="1472"/>
                </a:cubicBezTo>
                <a:cubicBezTo>
                  <a:pt x="3997" y="1580"/>
                  <a:pt x="4018" y="1613"/>
                  <a:pt x="4091" y="1694"/>
                </a:cubicBezTo>
                <a:cubicBezTo>
                  <a:pt x="4164" y="1775"/>
                  <a:pt x="4268" y="1891"/>
                  <a:pt x="4361" y="1959"/>
                </a:cubicBezTo>
                <a:cubicBezTo>
                  <a:pt x="4454" y="2027"/>
                  <a:pt x="4567" y="2073"/>
                  <a:pt x="4649" y="2103"/>
                </a:cubicBezTo>
                <a:cubicBezTo>
                  <a:pt x="4731" y="2133"/>
                  <a:pt x="4773" y="2128"/>
                  <a:pt x="4852" y="2138"/>
                </a:cubicBezTo>
                <a:cubicBezTo>
                  <a:pt x="4931" y="2148"/>
                  <a:pt x="5065" y="2159"/>
                  <a:pt x="5121" y="216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6394320"/>
            <a:ext cx="815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83000" y="2557440"/>
            <a:ext cx="922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ut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1670040"/>
            <a:ext cx="18288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 unvoiced anti-X though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38680" y="1673280"/>
            <a:ext cx="152424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s anti-X com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frie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44560" y="3651120"/>
            <a:ext cx="9223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 X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4336920"/>
            <a:ext cx="10666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-X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629400" y="2664000"/>
            <a:ext cx="91440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bal abuse of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934320" y="3900600"/>
            <a:ext cx="10666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i-X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ol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0120" y="4738680"/>
            <a:ext cx="99036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i-X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r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95280" y="4870440"/>
            <a:ext cx="22860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09680" y="4191120"/>
            <a:ext cx="228600" cy="99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71800" y="2813040"/>
            <a:ext cx="38088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0" y="2203560"/>
            <a:ext cx="0" cy="761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5562720" y="2432160"/>
            <a:ext cx="76176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6172200" y="3422520"/>
            <a:ext cx="83808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6934320" y="4413240"/>
            <a:ext cx="45720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7772040" y="5251320"/>
            <a:ext cx="30492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6660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planation offered by the bell curve model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s of crowd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 angry mob contai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ts of anti-X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ery few, if any, neutral or pro-X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“sun, sand and sex” holiday resort attra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ts of “let’s party”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ery few, if any, religious people or families with young child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type of skew can result in unusual behaviou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44680" y="66600"/>
            <a:ext cx="62085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ow an angry mob might kill peo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kewed population sample in a mob results in a domino effe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body opposes the shouting of anti-X slog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 a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lo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anti-X slogans are shou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ople who want to commit violence take the shouting as encouragement to beat up some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n people who want to kill take the beatings as encouragement to ki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kewise, in a “sun, sand and sex” resor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is nobody to re-enforce self-restraint or inhib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ople behave during a holiday unlike they would at hom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where there is a more balanced sample of the popul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622600" y="66600"/>
            <a:ext cx="38433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levance to activis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you organize a march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ware that the marchers are a skewed representation of 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 unusual behaviour might occ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march of angry protestors might turn into an angry mob ri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ys to reduce the chances of this occurr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a fun theme into the m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stumes, funny placards, funny ch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r, introduce religion into the m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ng hy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666960" y="66600"/>
            <a:ext cx="1741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owd psychology can be explained as follow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crowds contain a skewed sample of the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amples: an angry mob or people on a “sun, sand and sex” holi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itally, the crowd is missing people who say “Don’t do tha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quence of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rts with behaviour that is unusual in a “normal populatio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ck of “Don’t do that” comments encourages more unusual behavi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ich encourages more extreme behavi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ke steps to ensure that a protest march does not turn into an angry mob, which then turns into a ri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fun or religion into the m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iaran McHale</cp:lastModifiedBy>
  <cp:lastPrinted>2002-08-30T21:11:41Z</cp:lastPrinted>
  <dcterms:modified xsi:type="dcterms:W3CDTF">2009-07-09T11:06:36Z</dcterms:modified>
  <cp:revision>1275</cp:revision>
  <dc:subject/>
  <dc:title>Bell-curve Model’s Insight into Crowd Psychology</dc:title>
</cp:coreProperties>
</file>