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ing the Bell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CED7432-5376-4F39-B7CE-F09B473C8D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1EE3274-4845-427A-9618-9F019CFC6D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hifting the Bell Cur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03120" y="66600"/>
            <a:ext cx="488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ing the labels to the le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shift the labels of the bell curve towards the lef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95120" y="1371600"/>
            <a:ext cx="358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00120" y="66600"/>
            <a:ext cx="607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ing the labels to the lef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we end up with a more intoleran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88620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30832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145080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34340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6794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89548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74660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98880"/>
            <a:ext cx="914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410080"/>
            <a:ext cx="763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88620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41440" y="66600"/>
            <a:ext cx="441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bell-curve shi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viously, shifting the labels to the right would produce a more toleran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ift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cre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e of Nazism in 1930s Germany resulted in more intolerance of J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ulminated in the holocaust during World Wa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ift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creas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 used to have black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slaves were freed, but there was widespread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-rights activism ended the segregation in the 196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m is still widespread but America today is much less intolerant of blacks than it was 50, 100, or 200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f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p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can take years, decades or even centuries to be notic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11120" y="66600"/>
            <a:ext cx="4668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withoutsanctuary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ebsite has photographs of lynchings 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1870 up to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ebsite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80 photographs of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5-minute flash video of the photographs with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rum for leaving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comments in the forum fall into two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see how the historical lynching photographs relate 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n-day U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ll curve model might help such people see th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st shocking part is not the dead black people but the faces of the white specta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23960" y="66600"/>
            <a:ext cx="5856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withoutsanctuary.or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hotographs emphasize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t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bell-curve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hotographs contain identifiable faces of white spect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there was no fear of being prosecuted for taking part in a ly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some photographs, children ar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arently, a lynching was considered family enter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hotographs include the names of the photogra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umably they hoped to get repeat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hotographs were sold as post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a niche consumer market exi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s on some postcards indicated pride at being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hotographs show large groups attending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stimated 15,000 people attended one ly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ies can increase or decrease their level of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reasing intolerance: Anti-black racism in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intolerance: Anti-Semitism in 1930s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in intolerance levels occur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take years, decades or even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cting to see changes immediately leads to frustration and burn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look for improvement milestones every few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08:19:31Z</dcterms:modified>
  <cp:revision>1286</cp:revision>
  <dc:subject/>
  <dc:title>Shifting the Bell Curve</dc:title>
</cp:coreProperties>
</file>