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ctical Aspects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yagr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BADE26FC-9382-41B8-9E99-8541338D5B4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D6FE7E4A-1A62-4626-9A52-FD7906D91F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actical Aspects of Satyagrah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30320" y="66600"/>
            <a:ext cx="7122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Gandhi tackled job discrim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had a law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applied for a license to work in the South African Supreme Co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on-white person had such a lice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barristers invented silly reasons to deny him his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was enraged by this, “but I restrained my feeling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’s autobiography does not mention him communicating the issue to newspapers. But he must have done so becau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newspapers condemned the opposition and accused the Law Society of jealous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peer pressure was ap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: Gandhi obtained his licen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’s win was well publicised so it set a precedent for nation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480" y="66600"/>
            <a:ext cx="6927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King secured black voting righ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many states in the US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could not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racist bureaucracy made it almost impossible for black people to register to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ng asked the US president to introduce a bill to tackl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ident said that public and political opinion would defeat such a 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ng organized Satyagraha-based protests in Sel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ma had racist bureaucracy to hinder black voter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planned, peaceful protestors were met with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wide media reported the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the apathetic majority applied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esident was able to introduce a bill for black 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ll pa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elapsed time: 5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atyagraha campaign is not a one-day protest. It can last for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tal skil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 communication (for peer press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f-discipline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ev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mpaign o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c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possible, make it an economic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uccessful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oca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mpaign can ha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ationa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744720" y="66600"/>
            <a:ext cx="1585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nesty International (www.amnesty.org) uses Satyagraha tac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mpaigns only for people who have not used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national letter-writing campaign is used to apply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ter writers instructed to be polite and respec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igns can last for a lo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: analyse the tactics of other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ose tactics compatible with Satyagrah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those organizations be more effective if they embraced Satyagrah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evious chapter explained the main principles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explores some practical aspects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0000" y="66600"/>
            <a:ext cx="6786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me period for a Satyagraha campa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Satyagraha campaigns run for a lo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understand why, imagine Fred is a member of the apathetic maj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d sees “Police use violence against peaceful protesters” in the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 he thinks “That’s not right. But there’s nothing I can d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Fred sees the similar headlin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peated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many weeks then he grows un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only at this point that 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ar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apply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headlines continue, he slowly increases the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at biographies of Gandhi or Martin Luther King Jr.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ir campaigns usually last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t leas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ral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ng’s Montgomery bus boycott lasted 1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27040" y="66600"/>
            <a:ext cx="2652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quired ski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skills are vitally important for a Satyagraha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ble communication skills (typically media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need this to generate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 for the peaceful protes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ust ensure no violence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v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ach protestors about the Bell Curve of Intolerance model so they underst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raining from violence is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protestors sing peaceful songs (such as hymns) to dissipate their 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estor (or any person who could be mistaken for one) uses violence then immediately stop the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th Gandhi and King applied this tactic success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wise the media will report the 1% of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22600" y="66600"/>
            <a:ext cx="5681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ature of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run a Satyagraha campaign against anti-X oppression in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ead, campaign agains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ature of the oppression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equal pay for X and non-X employees in a specific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ion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ility, such as buses, restaurants or toi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nial of a particular service to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efits of this focussed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makes it easier for the apathetic majority to understand the issue and sympathise enough to apply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for one issue makes it easier to achieve success for other issues later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opponents will think “They caused disruption for 6 months for that first issue. We don’t want to go though that trouble agai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04480" y="66600"/>
            <a:ext cx="6869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ature of oppress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anecdote is from: Chapter 16 (“The Albany Movement”)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Autobiography of Martin Luther King Jr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ck rights protestors in Albany ran simultaneous campaigns again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rimination in public places (libraries and par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nial of 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ions in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ion on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nial of free speech and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g’s 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istake I made there was to protest against segregation generally rather than against a single and distinct facet of it. Our protest was so vague that we got nothing, and the people were left very depressed and in despai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3920" y="66600"/>
            <a:ext cx="8487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arget economic power instead of political pow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atyagraha campaign can be more effective if it is aimed 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conomic pow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oppressors rather tha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olitical pow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s of targeting political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pressed X people may not have enough votes to bring abou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if the do, elections occur only once every, say, 4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efits of targeting economic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, oppressed X people are customers of their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ycotting an oppressor’s busine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quickl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ffects its pro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ddition, economic problems quickly get the attention of polit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g’s analysis of the Albany mov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ttacked the political power structure instead of the economic power structure. You don’t win against a political power structure where you don’t have the vot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73320" y="66600"/>
            <a:ext cx="4749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ink nationally, act local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ocaliz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campaign can generat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ationa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dia cover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of this, a local win can affect nationa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were two examples of this in earlier chap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examples are repeated on the following slides for ease of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0:28:47Z</dcterms:modified>
  <cp:revision>1278</cp:revision>
  <dc:subject/>
  <dc:title>Practical Aspects of Satyagraha</dc:title>
</cp:coreProperties>
</file>