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gre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1722BA82-B214-438C-8FF0-1BF477EBF5E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6A529A58-809D-4BB4-BCDE-57E7DBFE048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egreg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Is segregation finish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96800" y="66600"/>
            <a:ext cx="6314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s of decreasing se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19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56 Montgomery Bus Boycott ended segregation on public buses in the city of Montgom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ion on public buses continued elsewhere in southern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1960 Freedom Rides challenged segregation on inter-state b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parate campaigns had to be launched to tack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erent forms of segregation within the same city or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ame form of segregation in different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was no single moment in time when segregation suddenly stopp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segregation was reduced piece by pi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 after segregation laws were repealed, de facto segregation continued in some aspects of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61840" y="66600"/>
            <a:ext cx="5576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gregation is not all or noth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amples show that segregation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“all or nothing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ountry does not have to be either completely segregated or completely integ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ead, segregation is usually a matter of degre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countries a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artiall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n’t one law that segregates all aspects of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there can 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ral laws that, between them, segregate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other bunch of laws that segregate ho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et more laws that segregate restaurants, restrooms, education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ypically, such laws are created (or repealed) one at a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way, the amount of segregation increases or decreases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odern segregation-like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3760" y="66600"/>
            <a:ext cx="1466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het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of the te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het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of an island near Venice where Jews w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quir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ive in the 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dictionary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 of a city, especially a slum area, inhabited predominantly by members of a minority group, often as a result of social or economic restrictions, pressures or hard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dern cities, ghett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form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regate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ws may not require “X” people to live in an ghetto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ly paid jobs and high unemployment levels (due to discrimination) cause X people to live in cheap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keeps most X people segregated from most non-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47880" y="66600"/>
            <a:ext cx="5402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regation of disabled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spread lack of disabled access to buildings keeps disabled people segregated from non-disabled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yrics of one song are relev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am What I a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Mark Dignam, on his 1984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etry and Songs from the Whee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b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“special” is sometimes used to refer to people with dis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0">
              <a:spcBef>
                <a:spcPts val="49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child, offered alternative routes of tra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child, given special things to d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child, sent to special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66600"/>
            <a:ext cx="6134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b discrimination and se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discrimination financially affects a discriminated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 serves another purpose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discrimination helps to maintain segreg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keeps the apathetic majority ignorant about the reality of min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don’t have work colleagues who are “different” then your only source of information about such people may be the (biased)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ing “different” people out of teaching positions maintains the ignorance of future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this can be seen in the UK’s “Section 28” la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scussed on the next sl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20320" y="66600"/>
            <a:ext cx="6867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28 of the Local Government 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98, England and Wales introduced a law that contained the following tex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ocal authority shall no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tionally promote homosexuality or publish material with the intention of promoting homosexualit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the teaching in any maintained school of the acceptability of homosexuality as a pretended family relationship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2003, this law was repea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cept of “promoting” homosexuality was ambiguo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t mean “to encourage straight people to become gay”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mething that most gay people think is impos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did it mean “to promote the idea that homosexuality is acceptable”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is was a widely accepted interpre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600" y="66600"/>
            <a:ext cx="8055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28 of the Local Government Act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: there is not much difference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bidd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motion of “X is acceptable”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mot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X is unacceptab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eople would say this encourages anti-X preju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urprisingly, this was a major concern with Section 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ss widely understood concern was that Section 28 helped to maintain segr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helped to maintain the ignorance of (future generations of) the apathetic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regation is not an “all or nothing” iss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it is a matter of 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vel of segregation in a society increases or decreases as individual laws are created or repea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dividual anti-X practice or law might not seem like a big cause for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the slow accumulation (or repealing) of such practices or laws over time changes the nature of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discusses segregation. In particu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cial segregation in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artheid in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ose systems of segregation have ended. However, it is useful to study them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tactics from those systems are used in other (lesser) forms of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times it is easier to learn from extreme examples than from milder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Historical look at segr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1280" y="66600"/>
            <a:ext cx="4849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“separate but equal” l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gregationists often claimed that two races could live “separate but equal” l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course, the “equal” part of “separate but equal” was a l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ing two sets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qu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cilities was prohibitively expens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c toilets, libraries, schools, drinking water fountains, restaurants, hotel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ide from the financial expense, there was also the waste of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ither the government nor businesses could afford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reality, inferior, and therefo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n-equ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facilities were provided for black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pite this, the “separate but equal” li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ounded plausibl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naïve whit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4440" y="66600"/>
            <a:ext cx="8091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y segregation was important for op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vious reas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erior facilities ensured oppressed people remained poorly educated and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ey could continue to be explo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reduced slack in the lives of oppressed peop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ee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lack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earlier in this cour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out slack, it is difficult to bring abou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s obvious rea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all from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ll Curve of Intoleranc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 of this training course that most non-oppressed citizens form the “apathetic majorit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eping this majority ignorant of the true horror of oppression ensured they remained apa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apathy arising from ignorance enabled the oppression to 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41280" y="66600"/>
            <a:ext cx="6608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nishments for violating se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were severe punishments for white people who tried to end their own (or others’) igno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Chapter 28 of Nelson Mandela’s autobi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wife, Winnie, spent 2 weeks in prison after taking part in a peaceful pro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le in prison, Winnie befriended 2 white prison ward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her release, these new friends visited her in the black tow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lost their jobs because of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ald Woods, was a  journalist in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befriending Steven Biko he started to write unbiased 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overnment “banned” him (from writing or being in a room with more than one other per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For details, see his autobiography or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ry Freedom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560" y="66600"/>
            <a:ext cx="7796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nishments for violating segreg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9000"/>
          </a:bodyPr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lack Like M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ok provides some more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uthor, John Howard Griffin, received death threats after publishing his accounts of living as a black 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vember 14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vember 15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s discussed P. D. East, a journalist who satirised segregation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newspaper lost all its local subscri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family was shunned by almost every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nishments for violating segregation laws were more severe for black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people who started their own businesses (thus demonstrating their ability for more than menial work) risked having their homes or businesses burned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700 people in America (most black) were lynched between 188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68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n average of slightly more than one per we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50640" y="66600"/>
            <a:ext cx="4869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gregation aided genoc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World War 2, the Nazis put Jews into ghet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ee Wikipedia article o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hettos in Nazi-occupied Euro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security guards to prevent Jews leaving the ghetto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nd to prevent non-Jewish people from ente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hettos helped to enforce se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hettos were holding areas, until Jews could be transported to concentration ca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Nazi concentration camps had a “Work sets you free” sign at their entr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l villagers thought they were work camps rather than death ca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9T10:33:00Z</dcterms:modified>
  <cp:revision>1159</cp:revision>
  <dc:subject/>
  <dc:title>Tactics of Oppression</dc:title>
</cp:coreProperties>
</file>