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s for Activists i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Like 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48A0F54-3CF7-4F8D-80C8-C00F63CD5F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3AB3986-7150-41D6-A243-AF3DEF9275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040"/>
            <a:ext cx="8858160" cy="9810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ssons for Activists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“Black Like Me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2520" y="66600"/>
            <a:ext cx="4592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view of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Black Like 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59, John Howard Griffin, a white author in the U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pills, a sun lamp and skin dye to darken his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ved as a black man for 4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enced racism in ways that most white people never wi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wards, he reported his experience in magazine articles and TV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uthor received death threats for the rest of his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61 he published a book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ck Like 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bout hi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sold 10 million copies and was translated into many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required reading in many schools in th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eople describe the book as “life chang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71400" y="66600"/>
            <a:ext cx="2419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more effective for raising awareness of rac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utobiography, spanning decades, written by a black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4-week autobiography written by a white person disguised as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prisingly, the 4-week autobiography is arguably be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nt racism in many white people means they will trust a white author more to provide non-biased information about ra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unfortunate but true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ck Like 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akes advantage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readers might suspect a book spanning decades is cherry picking the racist incidents it reports to make racism seem worse than 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4-week book, written in diary format, clearly shows the frequency of racist in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4-week autobiography provides some marketing opportun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lty of a white person disguised as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ness of a 4-week autobiography is appealing to casual r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73080" y="66600"/>
            <a:ext cx="3606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ffectivenes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one other reason wh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“better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body who is an expert in a particular topic m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some information is obvious and not worth men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realize the same information provides great insight for non-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a black author m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some aspects of racism are obvious and not worth discu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realize that such a discussion would be insightful for white r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iffin, disguised as a black man, was able to identify and report on some of these often overlooked aspects of rac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71240" y="66600"/>
            <a:ext cx="4551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portunities for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actics used to writ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be re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hite man in the USA could repeat Griffin’s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show changing levels of racism over a 50-year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lack person could keep a 4-week diary of racism experienced and publish it as an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uld not have the novelty of a white person disguised as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 4-week diary format could highlight the frequency of racist experiences better than a multi-decade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hristian could pretend to be, say, Muslim for a few weeks and write a book on the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west of the Lo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Gunter Wallraff and M. Chalmers i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ck Like 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tyle experiment to highlight racism faced by Turks in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69680" y="66600"/>
            <a:ext cx="5738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portunities for activism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non-X people would like to fight anti-X intolerance but do not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one example of how to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you undertake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ensure you have good wr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calable Communicati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for advice on improving your writ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23Z</dcterms:modified>
  <cp:revision>1113</cp:revision>
  <dc:subject/>
  <dc:title>Lessons for Activists in Black Like Me</dc:title>
</cp:coreProperties>
</file>